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F15-88B4-4868-8488-FB65384A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5D5-36CB-4C0D-816A-250B7501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0D7-55F0-498B-B3BE-BB5C546E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CFF-BE9F-4CD0-8555-32F185C0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839-1D5E-44FA-B395-2588F415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DEB-58A0-421A-9814-020C06F4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EB7-421E-4E42-9E7E-26AABB3E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600-1B4A-49F7-8466-4C170D91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410-CD05-4D53-B315-41D23F35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E2E-2F42-4956-9B19-D3653637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044-5BD8-4314-B589-52801F56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018-B904-49E3-99D1-D2BEF83D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FA34-4358-494C-8066-9EA8D6D0AC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000"/>
                </a:solidFill>
                <a:latin typeface="Harrington"/>
              </a:rPr>
              <a:t>Who Rules?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ms of Governm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4" descr="mabel.png"/>
          <p:cNvPicPr/>
          <p:nvPr/>
        </p:nvPicPr>
        <p:blipFill>
          <a:blip r:embed="rId1"/>
          <a:stretch/>
        </p:blipFill>
        <p:spPr>
          <a:xfrm>
            <a:off x="2590920" y="3733920"/>
            <a:ext cx="1739880" cy="267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at.png"/>
          <p:cNvPicPr/>
          <p:nvPr/>
        </p:nvPicPr>
        <p:blipFill>
          <a:blip r:embed="rId2"/>
          <a:stretch/>
        </p:blipFill>
        <p:spPr>
          <a:xfrm>
            <a:off x="685800" y="3200400"/>
            <a:ext cx="14367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jeffrey.png"/>
          <p:cNvPicPr/>
          <p:nvPr/>
        </p:nvPicPr>
        <p:blipFill>
          <a:blip r:embed="rId3"/>
          <a:stretch/>
        </p:blipFill>
        <p:spPr>
          <a:xfrm>
            <a:off x="4952880" y="3227400"/>
            <a:ext cx="1371600" cy="246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kathy.png"/>
          <p:cNvPicPr/>
          <p:nvPr/>
        </p:nvPicPr>
        <p:blipFill>
          <a:blip r:embed="rId4"/>
          <a:stretch/>
        </p:blipFill>
        <p:spPr>
          <a:xfrm>
            <a:off x="6705720" y="3657600"/>
            <a:ext cx="1676160" cy="26290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5"/>
          <p:cNvGrpSpPr/>
          <p:nvPr/>
        </p:nvGrpSpPr>
        <p:grpSpPr>
          <a:xfrm>
            <a:off x="2210400" y="3124440"/>
            <a:ext cx="2190600" cy="1755720"/>
            <a:chOff x="2210400" y="3124440"/>
            <a:chExt cx="2190600" cy="1755720"/>
          </a:xfrm>
        </p:grpSpPr>
        <p:sp>
          <p:nvSpPr>
            <p:cNvPr id="48" name="Freeform 7"/>
            <p:cNvSpPr/>
            <p:nvPr/>
          </p:nvSpPr>
          <p:spPr>
            <a:xfrm rot="20326200">
              <a:off x="2352600" y="3430440"/>
              <a:ext cx="1906200" cy="1143000"/>
            </a:xfrm>
            <a:custGeom>
              <a:avLst/>
              <a:gdLst>
                <a:gd name="textAreaLeft" fmla="*/ 0 w 1906200"/>
                <a:gd name="textAreaRight" fmla="*/ 1906560 w 1906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 rot="20326200">
              <a:off x="3178440" y="3434760"/>
              <a:ext cx="866160" cy="371520"/>
            </a:xfrm>
            <a:custGeom>
              <a:avLst/>
              <a:gdLst>
                <a:gd name="textAreaLeft" fmla="*/ 0 w 866160"/>
                <a:gd name="textAreaRight" fmla="*/ 866520 w 8661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 rot="20326200">
              <a:off x="3190320" y="3644640"/>
              <a:ext cx="416160" cy="20808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 rot="20326200">
              <a:off x="2926440" y="3792240"/>
              <a:ext cx="270720" cy="21132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rot="20326200">
              <a:off x="2407680" y="3857400"/>
              <a:ext cx="700560" cy="349200"/>
            </a:xfrm>
            <a:custGeom>
              <a:avLst/>
              <a:gdLst>
                <a:gd name="textAreaLeft" fmla="*/ 0 w 700560"/>
                <a:gd name="textAreaRight" fmla="*/ 700920 w 70056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 rot="20326200">
              <a:off x="2986560" y="3538080"/>
              <a:ext cx="202320" cy="238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 rot="20326200">
              <a:off x="2506680" y="3826440"/>
              <a:ext cx="1732320" cy="677880"/>
            </a:xfrm>
            <a:custGeom>
              <a:avLst/>
              <a:gdLst>
                <a:gd name="textAreaLeft" fmla="*/ 0 w 1732320"/>
                <a:gd name="textAreaRight" fmla="*/ 1732680 w 173232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 rot="20326200">
              <a:off x="2652480" y="4124520"/>
              <a:ext cx="1547280" cy="174960"/>
            </a:xfrm>
            <a:custGeom>
              <a:avLst/>
              <a:gdLst>
                <a:gd name="textAreaLeft" fmla="*/ 0 w 1547280"/>
                <a:gd name="textAreaRight" fmla="*/ 1547640 w 154728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 rot="20326200">
              <a:off x="3760920" y="3985200"/>
              <a:ext cx="85680" cy="525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 rot="20326200">
              <a:off x="3242520" y="4202640"/>
              <a:ext cx="132120" cy="82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 rot="20326200">
              <a:off x="2880000" y="4399560"/>
              <a:ext cx="114840" cy="777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20326200">
              <a:off x="3643920" y="3788640"/>
              <a:ext cx="85680" cy="1368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 rot="20326200">
              <a:off x="3084120" y="4034160"/>
              <a:ext cx="83880" cy="1476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 rot="20326200">
              <a:off x="2673720" y="4304160"/>
              <a:ext cx="105840" cy="1108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 rot="20326200">
              <a:off x="2553480" y="4229280"/>
              <a:ext cx="180360" cy="5508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 rot="20326200">
              <a:off x="2485440" y="3823200"/>
              <a:ext cx="1767240" cy="690480"/>
            </a:xfrm>
            <a:custGeom>
              <a:avLst/>
              <a:gdLst>
                <a:gd name="textAreaLeft" fmla="*/ 0 w 1767240"/>
                <a:gd name="textAreaRight" fmla="*/ 1767600 w 176724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 rot="20326200">
              <a:off x="2645640" y="4115880"/>
              <a:ext cx="1557720" cy="192240"/>
            </a:xfrm>
            <a:custGeom>
              <a:avLst/>
              <a:gdLst>
                <a:gd name="textAreaLeft" fmla="*/ 0 w 1557720"/>
                <a:gd name="textAreaRight" fmla="*/ 1558080 w 15577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 rot="20326200">
              <a:off x="2666160" y="4282920"/>
              <a:ext cx="96840" cy="1634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 rot="20326200">
              <a:off x="2679120" y="4274640"/>
              <a:ext cx="116280" cy="1699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26"/>
            <p:cNvSpPr/>
            <p:nvPr/>
          </p:nvSpPr>
          <p:spPr>
            <a:xfrm rot="20326200">
              <a:off x="3070800" y="4022640"/>
              <a:ext cx="107640" cy="1839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7"/>
            <p:cNvSpPr/>
            <p:nvPr/>
          </p:nvSpPr>
          <p:spPr>
            <a:xfrm rot="20326200">
              <a:off x="3083040" y="4014000"/>
              <a:ext cx="109800" cy="190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8"/>
            <p:cNvSpPr/>
            <p:nvPr/>
          </p:nvSpPr>
          <p:spPr>
            <a:xfrm rot="20326200">
              <a:off x="3630240" y="3798000"/>
              <a:ext cx="59400" cy="1490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9"/>
            <p:cNvSpPr/>
            <p:nvPr/>
          </p:nvSpPr>
          <p:spPr>
            <a:xfrm rot="20326200">
              <a:off x="3652920" y="3773880"/>
              <a:ext cx="96840" cy="1602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0"/>
            <p:cNvSpPr/>
            <p:nvPr/>
          </p:nvSpPr>
          <p:spPr>
            <a:xfrm rot="20326200">
              <a:off x="3956400" y="3709440"/>
              <a:ext cx="78840" cy="1285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1"/>
            <p:cNvSpPr/>
            <p:nvPr/>
          </p:nvSpPr>
          <p:spPr>
            <a:xfrm rot="20326200">
              <a:off x="2857320" y="4388760"/>
              <a:ext cx="165240" cy="95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rot="20326200">
              <a:off x="3235320" y="4202280"/>
              <a:ext cx="158760" cy="921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rot="20326200">
              <a:off x="3752280" y="3986640"/>
              <a:ext cx="114120" cy="604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 rot="20326200">
              <a:off x="2912760" y="4535640"/>
              <a:ext cx="61200" cy="92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 rot="20326200">
              <a:off x="3260160" y="4402080"/>
              <a:ext cx="61920" cy="795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 rot="20326200">
              <a:off x="3652200" y="4212720"/>
              <a:ext cx="79200" cy="100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 rot="20326200">
              <a:off x="3974400" y="4088880"/>
              <a:ext cx="50760" cy="77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rot="20326200">
              <a:off x="2385720" y="3842640"/>
              <a:ext cx="771480" cy="36504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rot="20326200">
              <a:off x="2916360" y="3783960"/>
              <a:ext cx="301680" cy="2304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rot="20326200">
              <a:off x="3160800" y="3632040"/>
              <a:ext cx="467280" cy="2415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 rot="20326200">
              <a:off x="3287520" y="3521520"/>
              <a:ext cx="641520" cy="292320"/>
            </a:xfrm>
            <a:custGeom>
              <a:avLst/>
              <a:gdLst>
                <a:gd name="textAreaLeft" fmla="*/ 0 w 641520"/>
                <a:gd name="textAreaRight" fmla="*/ 641880 w 6415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rot="20326200">
              <a:off x="3147480" y="3425040"/>
              <a:ext cx="910080" cy="331920"/>
            </a:xfrm>
            <a:custGeom>
              <a:avLst/>
              <a:gdLst>
                <a:gd name="textAreaLeft" fmla="*/ 0 w 910080"/>
                <a:gd name="textAreaRight" fmla="*/ 910440 w 9100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 rot="20326200">
              <a:off x="2963880" y="3523320"/>
              <a:ext cx="240120" cy="25560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 rot="20326200">
              <a:off x="2504520" y="4039920"/>
              <a:ext cx="87840" cy="36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5"/>
            <p:cNvSpPr/>
            <p:nvPr/>
          </p:nvSpPr>
          <p:spPr>
            <a:xfrm rot="20326200">
              <a:off x="2640960" y="3915360"/>
              <a:ext cx="66240" cy="601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46"/>
            <p:cNvSpPr/>
            <p:nvPr/>
          </p:nvSpPr>
          <p:spPr>
            <a:xfrm rot="20326200">
              <a:off x="2444400" y="4137840"/>
              <a:ext cx="134280" cy="478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47"/>
            <p:cNvSpPr/>
            <p:nvPr/>
          </p:nvSpPr>
          <p:spPr>
            <a:xfrm rot="20326200">
              <a:off x="3019680" y="3894480"/>
              <a:ext cx="83880" cy="237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48"/>
            <p:cNvSpPr/>
            <p:nvPr/>
          </p:nvSpPr>
          <p:spPr>
            <a:xfrm rot="20326200">
              <a:off x="3052440" y="3818160"/>
              <a:ext cx="96840" cy="270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49"/>
            <p:cNvSpPr/>
            <p:nvPr/>
          </p:nvSpPr>
          <p:spPr>
            <a:xfrm rot="20326200">
              <a:off x="3443040" y="3687480"/>
              <a:ext cx="79200" cy="381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0"/>
            <p:cNvSpPr/>
            <p:nvPr/>
          </p:nvSpPr>
          <p:spPr>
            <a:xfrm rot="20326200">
              <a:off x="3556800" y="3436560"/>
              <a:ext cx="66240" cy="5580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1"/>
            <p:cNvSpPr/>
            <p:nvPr/>
          </p:nvSpPr>
          <p:spPr>
            <a:xfrm rot="20326200">
              <a:off x="3692520" y="3425760"/>
              <a:ext cx="61200" cy="5868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2"/>
            <p:cNvSpPr/>
            <p:nvPr/>
          </p:nvSpPr>
          <p:spPr>
            <a:xfrm rot="20326200">
              <a:off x="3814560" y="3441960"/>
              <a:ext cx="85680" cy="53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3"/>
            <p:cNvSpPr/>
            <p:nvPr/>
          </p:nvSpPr>
          <p:spPr>
            <a:xfrm rot="20326200">
              <a:off x="3936960" y="3511080"/>
              <a:ext cx="94320" cy="3348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54"/>
            <p:cNvSpPr/>
            <p:nvPr/>
          </p:nvSpPr>
          <p:spPr>
            <a:xfrm rot="20326200">
              <a:off x="3068640" y="3610080"/>
              <a:ext cx="52920" cy="96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04920" y="2438280"/>
            <a:ext cx="1877400" cy="1559160"/>
            <a:chOff x="304920" y="2438280"/>
            <a:chExt cx="1877400" cy="1559160"/>
          </a:xfrm>
        </p:grpSpPr>
        <p:sp>
          <p:nvSpPr>
            <p:cNvPr id="97" name="Freeform 7"/>
            <p:cNvSpPr/>
            <p:nvPr/>
          </p:nvSpPr>
          <p:spPr>
            <a:xfrm rot="20599200">
              <a:off x="434880" y="2646360"/>
              <a:ext cx="1617480" cy="1143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 rot="20599200">
              <a:off x="1149840" y="2694600"/>
              <a:ext cx="734760" cy="371520"/>
            </a:xfrm>
            <a:custGeom>
              <a:avLst/>
              <a:gdLst>
                <a:gd name="textAreaLeft" fmla="*/ 0 w 734760"/>
                <a:gd name="textAreaRight" fmla="*/ 735120 w 7347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 rot="20599200">
              <a:off x="1154160" y="2876400"/>
              <a:ext cx="353160" cy="208080"/>
            </a:xfrm>
            <a:custGeom>
              <a:avLst/>
              <a:gdLst>
                <a:gd name="textAreaLeft" fmla="*/ 0 w 353160"/>
                <a:gd name="textAreaRight" fmla="*/ 353160 w 353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 rot="20599200">
              <a:off x="921600" y="2981160"/>
              <a:ext cx="229680" cy="2113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 rot="20599200">
              <a:off x="473760" y="3007080"/>
              <a:ext cx="594360" cy="349200"/>
            </a:xfrm>
            <a:custGeom>
              <a:avLst/>
              <a:gdLst>
                <a:gd name="textAreaLeft" fmla="*/ 0 w 594360"/>
                <a:gd name="textAreaRight" fmla="*/ 594720 w 59436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 rot="20599200">
              <a:off x="978840" y="2734200"/>
              <a:ext cx="171720" cy="2383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 rot="20599200">
              <a:off x="561960" y="3047400"/>
              <a:ext cx="1469880" cy="677880"/>
            </a:xfrm>
            <a:custGeom>
              <a:avLst/>
              <a:gdLst>
                <a:gd name="textAreaLeft" fmla="*/ 0 w 1469880"/>
                <a:gd name="textAreaRight" fmla="*/ 1470240 w 146988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 rot="20599200">
              <a:off x="685800" y="3350880"/>
              <a:ext cx="1312920" cy="17496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 rot="20599200">
              <a:off x="1635840" y="3260520"/>
              <a:ext cx="72720" cy="525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 rot="20599200">
              <a:off x="1183680" y="3414240"/>
              <a:ext cx="112320" cy="824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 rot="20599200">
              <a:off x="865800" y="3563280"/>
              <a:ext cx="97200" cy="777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 rot="20599200">
              <a:off x="1539720" y="3053160"/>
              <a:ext cx="72720" cy="136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 rot="20599200">
              <a:off x="1050120" y="3227040"/>
              <a:ext cx="70920" cy="1476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 rot="20599200">
              <a:off x="690120" y="3443760"/>
              <a:ext cx="89640" cy="11088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 rot="20599200">
              <a:off x="582840" y="3356280"/>
              <a:ext cx="153000" cy="55080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 rot="20599200">
              <a:off x="543960" y="3043440"/>
              <a:ext cx="1499760" cy="690480"/>
            </a:xfrm>
            <a:custGeom>
              <a:avLst/>
              <a:gdLst>
                <a:gd name="textAreaLeft" fmla="*/ 0 w 1499760"/>
                <a:gd name="textAreaRight" fmla="*/ 1500120 w 149976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 rot="20599200">
              <a:off x="679680" y="3341880"/>
              <a:ext cx="1321920" cy="192240"/>
            </a:xfrm>
            <a:custGeom>
              <a:avLst/>
              <a:gdLst>
                <a:gd name="textAreaLeft" fmla="*/ 0 w 1321920"/>
                <a:gd name="textAreaRight" fmla="*/ 1322280 w 1321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 rot="20599200">
              <a:off x="683640" y="3421440"/>
              <a:ext cx="82080" cy="16344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 rot="20599200">
              <a:off x="694800" y="3415320"/>
              <a:ext cx="98640" cy="1699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 rot="20599200">
              <a:off x="1038600" y="3214800"/>
              <a:ext cx="91440" cy="1839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 rot="20599200">
              <a:off x="1049760" y="3207960"/>
              <a:ext cx="93240" cy="1904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28"/>
            <p:cNvSpPr/>
            <p:nvPr/>
          </p:nvSpPr>
          <p:spPr>
            <a:xfrm rot="20599200">
              <a:off x="1526760" y="3058920"/>
              <a:ext cx="50400" cy="1490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29"/>
            <p:cNvSpPr/>
            <p:nvPr/>
          </p:nvSpPr>
          <p:spPr>
            <a:xfrm rot="20599200">
              <a:off x="1547640" y="3039840"/>
              <a:ext cx="82080" cy="16020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 rot="20599200">
              <a:off x="1810800" y="3012120"/>
              <a:ext cx="66960" cy="1285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 rot="20599200">
              <a:off x="846360" y="3552840"/>
              <a:ext cx="140040" cy="954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 rot="20599200">
              <a:off x="1177200" y="3414600"/>
              <a:ext cx="134640" cy="921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 rot="20599200">
              <a:off x="1629000" y="3262680"/>
              <a:ext cx="96840" cy="604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 rot="20599200">
              <a:off x="889560" y="3697200"/>
              <a:ext cx="51840" cy="921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 rot="20599200">
              <a:off x="1192680" y="3607560"/>
              <a:ext cx="52560" cy="79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 rot="20599200">
              <a:off x="1535400" y="3470040"/>
              <a:ext cx="67320" cy="10008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 rot="20599200">
              <a:off x="1816920" y="3385800"/>
              <a:ext cx="43200" cy="777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 rot="20599200">
              <a:off x="455400" y="2994120"/>
              <a:ext cx="654840" cy="36504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 rot="20599200">
              <a:off x="912960" y="2973240"/>
              <a:ext cx="255960" cy="23040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 rot="20599200">
              <a:off x="1128600" y="2863080"/>
              <a:ext cx="396360" cy="24156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 rot="20599200">
              <a:off x="1241280" y="2779920"/>
              <a:ext cx="544320" cy="29232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 rot="20599200">
              <a:off x="1124280" y="2684160"/>
              <a:ext cx="772200" cy="331920"/>
            </a:xfrm>
            <a:custGeom>
              <a:avLst/>
              <a:gdLst>
                <a:gd name="textAreaLeft" fmla="*/ 0 w 772200"/>
                <a:gd name="textAreaRight" fmla="*/ 772560 w 772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43"/>
            <p:cNvSpPr/>
            <p:nvPr/>
          </p:nvSpPr>
          <p:spPr>
            <a:xfrm rot="20599200">
              <a:off x="959760" y="2719080"/>
              <a:ext cx="203760" cy="2556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44"/>
            <p:cNvSpPr/>
            <p:nvPr/>
          </p:nvSpPr>
          <p:spPr>
            <a:xfrm rot="20599200">
              <a:off x="552240" y="3164040"/>
              <a:ext cx="74520" cy="367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5"/>
            <p:cNvSpPr/>
            <p:nvPr/>
          </p:nvSpPr>
          <p:spPr>
            <a:xfrm rot="20599200">
              <a:off x="673200" y="3056760"/>
              <a:ext cx="56160" cy="601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46"/>
            <p:cNvSpPr/>
            <p:nvPr/>
          </p:nvSpPr>
          <p:spPr>
            <a:xfrm rot="20599200">
              <a:off x="498240" y="3255480"/>
              <a:ext cx="113760" cy="478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47"/>
            <p:cNvSpPr/>
            <p:nvPr/>
          </p:nvSpPr>
          <p:spPr>
            <a:xfrm rot="20599200">
              <a:off x="1000440" y="3083040"/>
              <a:ext cx="70920" cy="237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48"/>
            <p:cNvSpPr/>
            <p:nvPr/>
          </p:nvSpPr>
          <p:spPr>
            <a:xfrm rot="20599200">
              <a:off x="1030680" y="3012840"/>
              <a:ext cx="82080" cy="2700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 rot="20599200">
              <a:off x="1370520" y="293004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50"/>
            <p:cNvSpPr/>
            <p:nvPr/>
          </p:nvSpPr>
          <p:spPr>
            <a:xfrm rot="20599200">
              <a:off x="1474200" y="2697120"/>
              <a:ext cx="56160" cy="558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51"/>
            <p:cNvSpPr/>
            <p:nvPr/>
          </p:nvSpPr>
          <p:spPr>
            <a:xfrm rot="20599200">
              <a:off x="1592280" y="2702160"/>
              <a:ext cx="51840" cy="586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 rot="20599200">
              <a:off x="1697040" y="2733840"/>
              <a:ext cx="72720" cy="5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 rot="20599200">
              <a:off x="1800720" y="2817360"/>
              <a:ext cx="79920" cy="3348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4"/>
            <p:cNvSpPr/>
            <p:nvPr/>
          </p:nvSpPr>
          <p:spPr>
            <a:xfrm rot="20599200">
              <a:off x="1048680" y="2807280"/>
              <a:ext cx="44640" cy="96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Group 5"/>
          <p:cNvGrpSpPr/>
          <p:nvPr/>
        </p:nvGrpSpPr>
        <p:grpSpPr>
          <a:xfrm>
            <a:off x="4570200" y="2635200"/>
            <a:ext cx="1425960" cy="1296720"/>
            <a:chOff x="4570200" y="2635200"/>
            <a:chExt cx="1425960" cy="1296720"/>
          </a:xfrm>
        </p:grpSpPr>
        <p:sp>
          <p:nvSpPr>
            <p:cNvPr id="146" name="Freeform 7"/>
            <p:cNvSpPr/>
            <p:nvPr/>
          </p:nvSpPr>
          <p:spPr>
            <a:xfrm rot="20326200">
              <a:off x="4700520" y="2814120"/>
              <a:ext cx="1165320" cy="93852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938520"/>
                <a:gd name="textAreaBottom" fmla="*/ 938880 h 93852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 rot="20326200">
              <a:off x="5186520" y="2850120"/>
              <a:ext cx="529200" cy="30492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 rot="20326200">
              <a:off x="5196960" y="3003480"/>
              <a:ext cx="254520" cy="17064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 rot="20326200">
              <a:off x="5036760" y="3097080"/>
              <a:ext cx="165600" cy="17352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 rot="20326200">
              <a:off x="4721040" y="3125160"/>
              <a:ext cx="428040" cy="286560"/>
            </a:xfrm>
            <a:custGeom>
              <a:avLst/>
              <a:gdLst>
                <a:gd name="textAreaLeft" fmla="*/ 0 w 428040"/>
                <a:gd name="textAreaRight" fmla="*/ 428400 w 42804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 rot="20326200">
              <a:off x="5057280" y="2896920"/>
              <a:ext cx="123480" cy="1954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 rot="20326200">
              <a:off x="4807800" y="3139920"/>
              <a:ext cx="1058760" cy="556560"/>
            </a:xfrm>
            <a:custGeom>
              <a:avLst/>
              <a:gdLst>
                <a:gd name="textAreaLeft" fmla="*/ 0 w 1058760"/>
                <a:gd name="textAreaRight" fmla="*/ 1059120 w 105876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 rot="20326200">
              <a:off x="4902120" y="3386880"/>
              <a:ext cx="945720" cy="143640"/>
            </a:xfrm>
            <a:custGeom>
              <a:avLst/>
              <a:gdLst>
                <a:gd name="textAreaLeft" fmla="*/ 0 w 945720"/>
                <a:gd name="textAreaRight" fmla="*/ 946080 w 94572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 rot="20326200">
              <a:off x="5575680" y="3304800"/>
              <a:ext cx="52200" cy="42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 rot="20326200">
              <a:off x="5261760" y="3441960"/>
              <a:ext cx="80640" cy="67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 rot="20326200">
              <a:off x="5043240" y="3571920"/>
              <a:ext cx="70200" cy="637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 rot="20326200">
              <a:off x="5490000" y="3139560"/>
              <a:ext cx="52200" cy="1123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 rot="20326200">
              <a:off x="5150160" y="3294360"/>
              <a:ext cx="51120" cy="1209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0"/>
            <p:cNvSpPr/>
            <p:nvPr/>
          </p:nvSpPr>
          <p:spPr>
            <a:xfrm rot="20326200">
              <a:off x="4906080" y="3480840"/>
              <a:ext cx="64440" cy="907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 rot="20326200">
              <a:off x="4840560" y="3409560"/>
              <a:ext cx="110160" cy="45216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22"/>
            <p:cNvSpPr/>
            <p:nvPr/>
          </p:nvSpPr>
          <p:spPr>
            <a:xfrm rot="20326200">
              <a:off x="4795200" y="3136680"/>
              <a:ext cx="1080360" cy="56664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23"/>
            <p:cNvSpPr/>
            <p:nvPr/>
          </p:nvSpPr>
          <p:spPr>
            <a:xfrm rot="20326200">
              <a:off x="4897800" y="3379680"/>
              <a:ext cx="952200" cy="157680"/>
            </a:xfrm>
            <a:custGeom>
              <a:avLst/>
              <a:gdLst>
                <a:gd name="textAreaLeft" fmla="*/ 0 w 952200"/>
                <a:gd name="textAreaRight" fmla="*/ 952560 w 95220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4"/>
            <p:cNvSpPr/>
            <p:nvPr/>
          </p:nvSpPr>
          <p:spPr>
            <a:xfrm rot="20326200">
              <a:off x="4901040" y="3462480"/>
              <a:ext cx="59040" cy="133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 rot="20326200">
              <a:off x="4909680" y="3457080"/>
              <a:ext cx="70920" cy="1393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 rot="20326200">
              <a:off x="5142240" y="3284640"/>
              <a:ext cx="65880" cy="15084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27"/>
            <p:cNvSpPr/>
            <p:nvPr/>
          </p:nvSpPr>
          <p:spPr>
            <a:xfrm rot="20326200">
              <a:off x="5150160" y="3278520"/>
              <a:ext cx="66960" cy="1562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28"/>
            <p:cNvSpPr/>
            <p:nvPr/>
          </p:nvSpPr>
          <p:spPr>
            <a:xfrm rot="20326200">
              <a:off x="5481720" y="3144960"/>
              <a:ext cx="36360" cy="1220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29"/>
            <p:cNvSpPr/>
            <p:nvPr/>
          </p:nvSpPr>
          <p:spPr>
            <a:xfrm rot="20326200">
              <a:off x="5495400" y="3128400"/>
              <a:ext cx="59040" cy="1314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0"/>
            <p:cNvSpPr/>
            <p:nvPr/>
          </p:nvSpPr>
          <p:spPr>
            <a:xfrm rot="20326200">
              <a:off x="5683320" y="3098160"/>
              <a:ext cx="48240" cy="1054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1"/>
            <p:cNvSpPr/>
            <p:nvPr/>
          </p:nvSpPr>
          <p:spPr>
            <a:xfrm rot="20326200">
              <a:off x="5029560" y="3563280"/>
              <a:ext cx="100800" cy="781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32"/>
            <p:cNvSpPr/>
            <p:nvPr/>
          </p:nvSpPr>
          <p:spPr>
            <a:xfrm rot="20326200">
              <a:off x="5257440" y="3442320"/>
              <a:ext cx="96840" cy="75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33"/>
            <p:cNvSpPr/>
            <p:nvPr/>
          </p:nvSpPr>
          <p:spPr>
            <a:xfrm rot="20326200">
              <a:off x="5571000" y="3306600"/>
              <a:ext cx="69840" cy="493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 rot="20326200">
              <a:off x="5073840" y="3680280"/>
              <a:ext cx="37440" cy="756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5"/>
            <p:cNvSpPr/>
            <p:nvPr/>
          </p:nvSpPr>
          <p:spPr>
            <a:xfrm rot="20326200">
              <a:off x="5285880" y="3598560"/>
              <a:ext cx="37800" cy="65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6"/>
            <p:cNvSpPr/>
            <p:nvPr/>
          </p:nvSpPr>
          <p:spPr>
            <a:xfrm rot="20326200">
              <a:off x="5523840" y="3476880"/>
              <a:ext cx="48240" cy="820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37"/>
            <p:cNvSpPr/>
            <p:nvPr/>
          </p:nvSpPr>
          <p:spPr>
            <a:xfrm rot="20326200">
              <a:off x="5720040" y="3400560"/>
              <a:ext cx="30960" cy="637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38"/>
            <p:cNvSpPr/>
            <p:nvPr/>
          </p:nvSpPr>
          <p:spPr>
            <a:xfrm rot="20326200">
              <a:off x="4707720" y="3114000"/>
              <a:ext cx="471600" cy="2995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39"/>
            <p:cNvSpPr/>
            <p:nvPr/>
          </p:nvSpPr>
          <p:spPr>
            <a:xfrm rot="20326200">
              <a:off x="5031000" y="3090240"/>
              <a:ext cx="184320" cy="189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 rot="20326200">
              <a:off x="5178960" y="2992680"/>
              <a:ext cx="285480" cy="1980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1"/>
            <p:cNvSpPr/>
            <p:nvPr/>
          </p:nvSpPr>
          <p:spPr>
            <a:xfrm rot="20326200">
              <a:off x="5256360" y="2919600"/>
              <a:ext cx="392040" cy="2397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42"/>
            <p:cNvSpPr/>
            <p:nvPr/>
          </p:nvSpPr>
          <p:spPr>
            <a:xfrm rot="20326200">
              <a:off x="5165280" y="2841840"/>
              <a:ext cx="556200" cy="27252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43"/>
            <p:cNvSpPr/>
            <p:nvPr/>
          </p:nvSpPr>
          <p:spPr>
            <a:xfrm rot="20326200">
              <a:off x="5042880" y="2884320"/>
              <a:ext cx="146880" cy="209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44"/>
            <p:cNvSpPr/>
            <p:nvPr/>
          </p:nvSpPr>
          <p:spPr>
            <a:xfrm rot="20326200">
              <a:off x="4776120" y="3259800"/>
              <a:ext cx="53640" cy="29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45"/>
            <p:cNvSpPr/>
            <p:nvPr/>
          </p:nvSpPr>
          <p:spPr>
            <a:xfrm rot="20326200">
              <a:off x="4855680" y="3169440"/>
              <a:ext cx="40320" cy="493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46"/>
            <p:cNvSpPr/>
            <p:nvPr/>
          </p:nvSpPr>
          <p:spPr>
            <a:xfrm rot="20326200">
              <a:off x="4745880" y="3334680"/>
              <a:ext cx="82080" cy="392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47"/>
            <p:cNvSpPr/>
            <p:nvPr/>
          </p:nvSpPr>
          <p:spPr>
            <a:xfrm rot="20326200">
              <a:off x="5094360" y="3180960"/>
              <a:ext cx="51120" cy="194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48"/>
            <p:cNvSpPr/>
            <p:nvPr/>
          </p:nvSpPr>
          <p:spPr>
            <a:xfrm rot="20326200">
              <a:off x="5110560" y="3123000"/>
              <a:ext cx="59040" cy="219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49"/>
            <p:cNvSpPr/>
            <p:nvPr/>
          </p:nvSpPr>
          <p:spPr>
            <a:xfrm rot="20326200">
              <a:off x="5351040" y="3045960"/>
              <a:ext cx="48240" cy="31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50"/>
            <p:cNvSpPr/>
            <p:nvPr/>
          </p:nvSpPr>
          <p:spPr>
            <a:xfrm rot="20326200">
              <a:off x="5406120" y="2854440"/>
              <a:ext cx="40320" cy="45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51"/>
            <p:cNvSpPr/>
            <p:nvPr/>
          </p:nvSpPr>
          <p:spPr>
            <a:xfrm rot="20326200">
              <a:off x="5492520" y="2854800"/>
              <a:ext cx="37440" cy="478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2"/>
            <p:cNvSpPr/>
            <p:nvPr/>
          </p:nvSpPr>
          <p:spPr>
            <a:xfrm rot="20326200">
              <a:off x="5571720" y="2877120"/>
              <a:ext cx="52200" cy="43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53"/>
            <p:cNvSpPr/>
            <p:nvPr/>
          </p:nvSpPr>
          <p:spPr>
            <a:xfrm rot="20326200">
              <a:off x="5654160" y="2941200"/>
              <a:ext cx="57600" cy="273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54"/>
            <p:cNvSpPr/>
            <p:nvPr/>
          </p:nvSpPr>
          <p:spPr>
            <a:xfrm rot="20326200">
              <a:off x="5108040" y="2956320"/>
              <a:ext cx="32040" cy="792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5"/>
          <p:cNvGrpSpPr/>
          <p:nvPr/>
        </p:nvGrpSpPr>
        <p:grpSpPr>
          <a:xfrm>
            <a:off x="6476760" y="3200040"/>
            <a:ext cx="1915200" cy="1141920"/>
            <a:chOff x="6476760" y="3200040"/>
            <a:chExt cx="1915200" cy="1141920"/>
          </a:xfrm>
        </p:grpSpPr>
        <p:sp>
          <p:nvSpPr>
            <p:cNvPr id="195" name="Freeform 7"/>
            <p:cNvSpPr/>
            <p:nvPr/>
          </p:nvSpPr>
          <p:spPr>
            <a:xfrm rot="21202800">
              <a:off x="6524640" y="3301920"/>
              <a:ext cx="1819080" cy="938160"/>
            </a:xfrm>
            <a:custGeom>
              <a:avLst/>
              <a:gdLst>
                <a:gd name="textAreaLeft" fmla="*/ 0 w 1819080"/>
                <a:gd name="textAreaRight" fmla="*/ 1819440 w 1819080"/>
                <a:gd name="textAreaTop" fmla="*/ 0 h 938160"/>
                <a:gd name="textAreaBottom" fmla="*/ 938520 h 93816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8"/>
            <p:cNvSpPr/>
            <p:nvPr/>
          </p:nvSpPr>
          <p:spPr>
            <a:xfrm rot="21202800">
              <a:off x="7398720" y="3372120"/>
              <a:ext cx="826560" cy="304920"/>
            </a:xfrm>
            <a:custGeom>
              <a:avLst/>
              <a:gdLst>
                <a:gd name="textAreaLeft" fmla="*/ 0 w 826560"/>
                <a:gd name="textAreaRight" fmla="*/ 826920 w 8265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9"/>
            <p:cNvSpPr/>
            <p:nvPr/>
          </p:nvSpPr>
          <p:spPr>
            <a:xfrm rot="21202800">
              <a:off x="7385400" y="3500640"/>
              <a:ext cx="397080" cy="1706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 rot="21202800">
              <a:off x="7107480" y="3554280"/>
              <a:ext cx="258480" cy="1731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1"/>
            <p:cNvSpPr/>
            <p:nvPr/>
          </p:nvSpPr>
          <p:spPr>
            <a:xfrm rot="21202800">
              <a:off x="6589080" y="3546360"/>
              <a:ext cx="668520" cy="286560"/>
            </a:xfrm>
            <a:custGeom>
              <a:avLst/>
              <a:gdLst>
                <a:gd name="textAreaLeft" fmla="*/ 0 w 668520"/>
                <a:gd name="textAreaRight" fmla="*/ 668520 w 66852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2"/>
            <p:cNvSpPr/>
            <p:nvPr/>
          </p:nvSpPr>
          <p:spPr>
            <a:xfrm rot="21202800">
              <a:off x="7225560" y="3355560"/>
              <a:ext cx="192960" cy="1954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3"/>
            <p:cNvSpPr/>
            <p:nvPr/>
          </p:nvSpPr>
          <p:spPr>
            <a:xfrm rot="21202800">
              <a:off x="6627240" y="3636360"/>
              <a:ext cx="1653120" cy="556200"/>
            </a:xfrm>
            <a:custGeom>
              <a:avLst/>
              <a:gdLst>
                <a:gd name="textAreaLeft" fmla="*/ 0 w 1653120"/>
                <a:gd name="textAreaRight" fmla="*/ 1653480 w 1653120"/>
                <a:gd name="textAreaTop" fmla="*/ 0 h 556200"/>
                <a:gd name="textAreaBottom" fmla="*/ 556560 h 55620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14"/>
            <p:cNvSpPr/>
            <p:nvPr/>
          </p:nvSpPr>
          <p:spPr>
            <a:xfrm rot="21202800">
              <a:off x="6752880" y="3890160"/>
              <a:ext cx="1476720" cy="143280"/>
            </a:xfrm>
            <a:custGeom>
              <a:avLst/>
              <a:gdLst>
                <a:gd name="textAreaLeft" fmla="*/ 0 w 1476720"/>
                <a:gd name="textAreaRight" fmla="*/ 1477080 w 147672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5"/>
            <p:cNvSpPr/>
            <p:nvPr/>
          </p:nvSpPr>
          <p:spPr>
            <a:xfrm rot="21202800">
              <a:off x="7848000" y="3853080"/>
              <a:ext cx="81720" cy="428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6"/>
            <p:cNvSpPr/>
            <p:nvPr/>
          </p:nvSpPr>
          <p:spPr>
            <a:xfrm rot="21202800">
              <a:off x="7311600" y="3931200"/>
              <a:ext cx="126360" cy="673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7"/>
            <p:cNvSpPr/>
            <p:nvPr/>
          </p:nvSpPr>
          <p:spPr>
            <a:xfrm rot="21202800">
              <a:off x="6930000" y="4016880"/>
              <a:ext cx="109440" cy="637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 rot="21202800">
              <a:off x="7779960" y="3672360"/>
              <a:ext cx="81720" cy="1119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 rot="21202800">
              <a:off x="7201800" y="3760560"/>
              <a:ext cx="79920" cy="120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 rot="21202800">
              <a:off x="6761160" y="3899880"/>
              <a:ext cx="100800" cy="907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 rot="21202800">
              <a:off x="6612120" y="3819600"/>
              <a:ext cx="172080" cy="4518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 rot="21202800">
              <a:off x="6606720" y="3632760"/>
              <a:ext cx="1686600" cy="566640"/>
            </a:xfrm>
            <a:custGeom>
              <a:avLst/>
              <a:gdLst>
                <a:gd name="textAreaLeft" fmla="*/ 0 w 1686600"/>
                <a:gd name="textAreaRight" fmla="*/ 1686960 w 168660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23"/>
            <p:cNvSpPr/>
            <p:nvPr/>
          </p:nvSpPr>
          <p:spPr>
            <a:xfrm rot="21202800">
              <a:off x="6746760" y="3882600"/>
              <a:ext cx="1486800" cy="157680"/>
            </a:xfrm>
            <a:custGeom>
              <a:avLst/>
              <a:gdLst>
                <a:gd name="textAreaLeft" fmla="*/ 0 w 1486800"/>
                <a:gd name="textAreaRight" fmla="*/ 1487160 w 148680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 rot="21202800">
              <a:off x="6752520" y="3880080"/>
              <a:ext cx="92520" cy="1339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 rot="21202800">
              <a:off x="6765840" y="3877560"/>
              <a:ext cx="110880" cy="1393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26"/>
            <p:cNvSpPr/>
            <p:nvPr/>
          </p:nvSpPr>
          <p:spPr>
            <a:xfrm rot="21202800">
              <a:off x="7187760" y="3750480"/>
              <a:ext cx="102960" cy="1508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27"/>
            <p:cNvSpPr/>
            <p:nvPr/>
          </p:nvSpPr>
          <p:spPr>
            <a:xfrm rot="21202800">
              <a:off x="7200720" y="3746160"/>
              <a:ext cx="104760" cy="156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28"/>
            <p:cNvSpPr/>
            <p:nvPr/>
          </p:nvSpPr>
          <p:spPr>
            <a:xfrm rot="21202800">
              <a:off x="7763760" y="3674160"/>
              <a:ext cx="56520" cy="12204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29"/>
            <p:cNvSpPr/>
            <p:nvPr/>
          </p:nvSpPr>
          <p:spPr>
            <a:xfrm rot="21202800">
              <a:off x="7788600" y="3662640"/>
              <a:ext cx="92520" cy="1314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30"/>
            <p:cNvSpPr/>
            <p:nvPr/>
          </p:nvSpPr>
          <p:spPr>
            <a:xfrm rot="21202800">
              <a:off x="8088480" y="3668400"/>
              <a:ext cx="75240" cy="105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31"/>
            <p:cNvSpPr/>
            <p:nvPr/>
          </p:nvSpPr>
          <p:spPr>
            <a:xfrm rot="21202800">
              <a:off x="6908760" y="4008960"/>
              <a:ext cx="157680" cy="7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32"/>
            <p:cNvSpPr/>
            <p:nvPr/>
          </p:nvSpPr>
          <p:spPr>
            <a:xfrm rot="21202800">
              <a:off x="7303680" y="3931920"/>
              <a:ext cx="151560" cy="7560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33"/>
            <p:cNvSpPr/>
            <p:nvPr/>
          </p:nvSpPr>
          <p:spPr>
            <a:xfrm rot="21202800">
              <a:off x="7837920" y="3855240"/>
              <a:ext cx="109080" cy="493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34"/>
            <p:cNvSpPr/>
            <p:nvPr/>
          </p:nvSpPr>
          <p:spPr>
            <a:xfrm rot="21202800">
              <a:off x="6924240" y="4126680"/>
              <a:ext cx="58320" cy="756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35"/>
            <p:cNvSpPr/>
            <p:nvPr/>
          </p:nvSpPr>
          <p:spPr>
            <a:xfrm rot="21202800">
              <a:off x="7278840" y="4087080"/>
              <a:ext cx="59040" cy="651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36"/>
            <p:cNvSpPr/>
            <p:nvPr/>
          </p:nvSpPr>
          <p:spPr>
            <a:xfrm rot="21202800">
              <a:off x="7684200" y="4012920"/>
              <a:ext cx="75600" cy="820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37"/>
            <p:cNvSpPr/>
            <p:nvPr/>
          </p:nvSpPr>
          <p:spPr>
            <a:xfrm rot="21202800">
              <a:off x="8015040" y="3973320"/>
              <a:ext cx="48600" cy="63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38"/>
            <p:cNvSpPr/>
            <p:nvPr/>
          </p:nvSpPr>
          <p:spPr>
            <a:xfrm rot="21202800">
              <a:off x="6570000" y="3536640"/>
              <a:ext cx="736200" cy="29952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39"/>
            <p:cNvSpPr/>
            <p:nvPr/>
          </p:nvSpPr>
          <p:spPr>
            <a:xfrm rot="21202800">
              <a:off x="7097400" y="3548160"/>
              <a:ext cx="288000" cy="18900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40"/>
            <p:cNvSpPr/>
            <p:nvPr/>
          </p:nvSpPr>
          <p:spPr>
            <a:xfrm rot="21202800">
              <a:off x="7356240" y="3489120"/>
              <a:ext cx="445680" cy="19800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41"/>
            <p:cNvSpPr/>
            <p:nvPr/>
          </p:nvSpPr>
          <p:spPr>
            <a:xfrm rot="21202800">
              <a:off x="7490880" y="3441600"/>
              <a:ext cx="612360" cy="23976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42"/>
            <p:cNvSpPr/>
            <p:nvPr/>
          </p:nvSpPr>
          <p:spPr>
            <a:xfrm rot="21202800">
              <a:off x="7376760" y="3363120"/>
              <a:ext cx="868320" cy="272160"/>
            </a:xfrm>
            <a:custGeom>
              <a:avLst/>
              <a:gdLst>
                <a:gd name="textAreaLeft" fmla="*/ 0 w 868320"/>
                <a:gd name="textAreaRight" fmla="*/ 868680 w 8683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43"/>
            <p:cNvSpPr/>
            <p:nvPr/>
          </p:nvSpPr>
          <p:spPr>
            <a:xfrm rot="21202800">
              <a:off x="7205760" y="3342240"/>
              <a:ext cx="229320" cy="20952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44"/>
            <p:cNvSpPr/>
            <p:nvPr/>
          </p:nvSpPr>
          <p:spPr>
            <a:xfrm rot="21202800">
              <a:off x="6682320" y="3654720"/>
              <a:ext cx="83880" cy="29880"/>
            </a:xfrm>
            <a:custGeom>
              <a:avLst/>
              <a:gdLst>
                <a:gd name="textAreaLeft" fmla="*/ 0 w 83880"/>
                <a:gd name="textAreaRight" fmla="*/ 83880 w 83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45"/>
            <p:cNvSpPr/>
            <p:nvPr/>
          </p:nvSpPr>
          <p:spPr>
            <a:xfrm rot="21202800">
              <a:off x="6837840" y="3579120"/>
              <a:ext cx="63360" cy="49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46"/>
            <p:cNvSpPr/>
            <p:nvPr/>
          </p:nvSpPr>
          <p:spPr>
            <a:xfrm rot="21202800">
              <a:off x="6600600" y="3726360"/>
              <a:ext cx="128160" cy="392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47"/>
            <p:cNvSpPr/>
            <p:nvPr/>
          </p:nvSpPr>
          <p:spPr>
            <a:xfrm rot="21202800">
              <a:off x="7194240" y="3637800"/>
              <a:ext cx="79920" cy="194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48"/>
            <p:cNvSpPr/>
            <p:nvPr/>
          </p:nvSpPr>
          <p:spPr>
            <a:xfrm rot="21202800">
              <a:off x="7243200" y="3584160"/>
              <a:ext cx="92520" cy="219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49"/>
            <p:cNvSpPr/>
            <p:nvPr/>
          </p:nvSpPr>
          <p:spPr>
            <a:xfrm rot="21202800">
              <a:off x="7633800" y="3553200"/>
              <a:ext cx="75600" cy="313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50"/>
            <p:cNvSpPr/>
            <p:nvPr/>
          </p:nvSpPr>
          <p:spPr>
            <a:xfrm rot="21202800">
              <a:off x="7800480" y="3372840"/>
              <a:ext cx="63360" cy="45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51"/>
            <p:cNvSpPr/>
            <p:nvPr/>
          </p:nvSpPr>
          <p:spPr>
            <a:xfrm rot="21202800">
              <a:off x="7927560" y="3390120"/>
              <a:ext cx="58320" cy="47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52"/>
            <p:cNvSpPr/>
            <p:nvPr/>
          </p:nvSpPr>
          <p:spPr>
            <a:xfrm rot="21202800">
              <a:off x="8035920" y="3428640"/>
              <a:ext cx="81720" cy="4392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53"/>
            <p:cNvSpPr/>
            <p:nvPr/>
          </p:nvSpPr>
          <p:spPr>
            <a:xfrm rot="21202800">
              <a:off x="8133120" y="3508560"/>
              <a:ext cx="90000" cy="273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54"/>
            <p:cNvSpPr/>
            <p:nvPr/>
          </p:nvSpPr>
          <p:spPr>
            <a:xfrm rot="21202800">
              <a:off x="7303680" y="3415680"/>
              <a:ext cx="50400" cy="79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52280" y="137124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e’ve talked about </a:t>
            </a: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DEMOCRACIE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8" name="Picture 3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390" name="Rounded Rectangular Callout 5"/>
          <p:cNvSpPr/>
          <p:nvPr/>
        </p:nvSpPr>
        <p:spPr>
          <a:xfrm>
            <a:off x="1371600" y="2286000"/>
            <a:ext cx="3352680" cy="1752480"/>
          </a:xfrm>
          <a:prstGeom prst="wedgeRoundRectCallout">
            <a:avLst>
              <a:gd name="adj1" fmla="val -36189"/>
              <a:gd name="adj2" fmla="val 146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emocracy is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ounded Rectangular Callout 6"/>
          <p:cNvSpPr/>
          <p:nvPr/>
        </p:nvSpPr>
        <p:spPr>
          <a:xfrm>
            <a:off x="4267080" y="3276720"/>
            <a:ext cx="3124440" cy="1904760"/>
          </a:xfrm>
          <a:prstGeom prst="wedgeRoundRectCallout">
            <a:avLst>
              <a:gd name="adj1" fmla="val 47375"/>
              <a:gd name="adj2" fmla="val 11525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 by the people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AUTOCRACIE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4" name="Picture 5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396" name="Rounded Rectangular Callout 7"/>
          <p:cNvSpPr/>
          <p:nvPr/>
        </p:nvSpPr>
        <p:spPr>
          <a:xfrm>
            <a:off x="1371600" y="2286000"/>
            <a:ext cx="3352680" cy="1752480"/>
          </a:xfrm>
          <a:prstGeom prst="wedgeRoundRectCallout">
            <a:avLst>
              <a:gd name="adj1" fmla="val -36189"/>
              <a:gd name="adj2" fmla="val 146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utocracy is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ounded Rectangular Callout 8"/>
          <p:cNvSpPr/>
          <p:nvPr/>
        </p:nvSpPr>
        <p:spPr>
          <a:xfrm>
            <a:off x="4267080" y="3276720"/>
            <a:ext cx="3124440" cy="1904760"/>
          </a:xfrm>
          <a:prstGeom prst="wedgeRoundRectCallout">
            <a:avLst>
              <a:gd name="adj1" fmla="val 47375"/>
              <a:gd name="adj2" fmla="val 11525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 by one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ut what other forms of government are there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0" name="Picture 4" descr="pat.png"/>
          <p:cNvPicPr/>
          <p:nvPr/>
        </p:nvPicPr>
        <p:blipFill>
          <a:blip r:embed="rId1"/>
          <a:stretch/>
        </p:blipFill>
        <p:spPr>
          <a:xfrm rot="789000">
            <a:off x="-79200" y="4199040"/>
            <a:ext cx="1738080" cy="2857320"/>
          </a:xfrm>
          <a:prstGeom prst="rect">
            <a:avLst/>
          </a:prstGeom>
          <a:ln w="0">
            <a:noFill/>
          </a:ln>
        </p:spPr>
      </p:pic>
      <p:sp>
        <p:nvSpPr>
          <p:cNvPr id="401" name="Rounded Rectangular Callout 5"/>
          <p:cNvSpPr/>
          <p:nvPr/>
        </p:nvSpPr>
        <p:spPr>
          <a:xfrm>
            <a:off x="2133720" y="3276720"/>
            <a:ext cx="6476760" cy="2895480"/>
          </a:xfrm>
          <a:prstGeom prst="wedgeRoundRectCallout">
            <a:avLst>
              <a:gd name="adj1" fmla="val -59435"/>
              <a:gd name="adj2" fmla="val 40666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f, instead of everyone or just one person, a few people got together to rule a n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ule by Few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Olig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380880" y="129528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ule by few”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5" descr="gob.png"/>
          <p:cNvPicPr/>
          <p:nvPr/>
        </p:nvPicPr>
        <p:blipFill>
          <a:blip r:embed="rId1"/>
          <a:stretch/>
        </p:blipFill>
        <p:spPr>
          <a:xfrm>
            <a:off x="6477120" y="152280"/>
            <a:ext cx="538200" cy="914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maude.png"/>
          <p:cNvPicPr/>
          <p:nvPr/>
        </p:nvPicPr>
        <p:blipFill>
          <a:blip r:embed="rId2"/>
          <a:stretch/>
        </p:blipFill>
        <p:spPr>
          <a:xfrm>
            <a:off x="5791320" y="380880"/>
            <a:ext cx="674640" cy="9954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ivan.png"/>
          <p:cNvPicPr/>
          <p:nvPr/>
        </p:nvPicPr>
        <p:blipFill>
          <a:blip r:embed="rId3"/>
          <a:stretch/>
        </p:blipFill>
        <p:spPr>
          <a:xfrm>
            <a:off x="6400800" y="609480"/>
            <a:ext cx="444600" cy="11052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8"/>
          <p:cNvSpPr/>
          <p:nvPr/>
        </p:nvSpPr>
        <p:spPr>
          <a:xfrm>
            <a:off x="380880" y="182880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ower can be based on several thing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9"/>
          <p:cNvSpPr/>
          <p:nvPr/>
        </p:nvSpPr>
        <p:spPr>
          <a:xfrm>
            <a:off x="533520" y="23623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Military strength = Military Jun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10"/>
          <p:cNvSpPr/>
          <p:nvPr/>
        </p:nvSpPr>
        <p:spPr>
          <a:xfrm>
            <a:off x="533520" y="28195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Family power = Aristocra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11"/>
          <p:cNvSpPr/>
          <p:nvPr/>
        </p:nvSpPr>
        <p:spPr>
          <a:xfrm>
            <a:off x="533520" y="325584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Religious control = Theocratic Oligarch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12"/>
          <p:cNvSpPr/>
          <p:nvPr/>
        </p:nvSpPr>
        <p:spPr>
          <a:xfrm>
            <a:off x="457200" y="38862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ligarchies can often come from or lead to other forms of government (like autocraci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The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o” means “god” in Greek… so if a government is THEO-cratic that means it is ruled by… That’s right! A god or higher power!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4" name="Group 16" descr=""/>
          <p:cNvPicPr/>
          <p:nvPr/>
        </p:nvPicPr>
        <p:blipFill>
          <a:blip r:embed="rId1"/>
          <a:stretch/>
        </p:blipFill>
        <p:spPr>
          <a:xfrm>
            <a:off x="1279440" y="139680"/>
            <a:ext cx="1616040" cy="1335240"/>
          </a:xfrm>
          <a:prstGeom prst="rect">
            <a:avLst/>
          </a:prstGeom>
          <a:ln w="0">
            <a:noFill/>
          </a:ln>
        </p:spPr>
      </p:pic>
      <p:sp>
        <p:nvSpPr>
          <p:cNvPr id="415" name="Content Placeholder 2"/>
          <p:cNvSpPr/>
          <p:nvPr/>
        </p:nvSpPr>
        <p:spPr>
          <a:xfrm>
            <a:off x="457200" y="32004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eaders (</a:t>
            </a:r>
            <a:r>
              <a:rPr b="0" i="1" lang="en-US" sz="3000" spc="-1" strike="noStrike">
                <a:solidFill>
                  <a:srgbClr val="ffffff"/>
                </a:solidFill>
                <a:latin typeface="Harrington"/>
              </a:rPr>
              <a:t>autocratic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r </a:t>
            </a:r>
            <a:r>
              <a:rPr b="0" i="1" lang="en-US" sz="3000" spc="-1" strike="noStrike">
                <a:solidFill>
                  <a:srgbClr val="ffffff"/>
                </a:solidFill>
                <a:latin typeface="Harrington"/>
              </a:rPr>
              <a:t>oligarchic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) are usually religious leaders and society uses religious law to settle its dispu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Content Placeholder 2"/>
          <p:cNvSpPr/>
          <p:nvPr/>
        </p:nvSpPr>
        <p:spPr>
          <a:xfrm>
            <a:off x="457200" y="48769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ample: The Islamic Republic of Iran is a modern theocracy that uses the holy Islamic book, The Qur’an, as its guid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An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 government at all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9" name="Picture 3" descr="kathy.png"/>
          <p:cNvPicPr/>
          <p:nvPr/>
        </p:nvPicPr>
        <p:blipFill>
          <a:blip r:embed="rId1"/>
          <a:stretch/>
        </p:blipFill>
        <p:spPr>
          <a:xfrm flipH="1" rot="21195000">
            <a:off x="6821280" y="3772080"/>
            <a:ext cx="2133360" cy="3345840"/>
          </a:xfrm>
          <a:prstGeom prst="rect">
            <a:avLst/>
          </a:prstGeom>
          <a:ln w="0">
            <a:noFill/>
          </a:ln>
        </p:spPr>
      </p:pic>
      <p:sp>
        <p:nvSpPr>
          <p:cNvPr id="420" name="Rounded Rectangular Callout 4"/>
          <p:cNvSpPr/>
          <p:nvPr/>
        </p:nvSpPr>
        <p:spPr>
          <a:xfrm rot="21050400">
            <a:off x="1294920" y="2666520"/>
            <a:ext cx="5257800" cy="2514600"/>
          </a:xfrm>
          <a:prstGeom prst="wedgeRoundRectCallout">
            <a:avLst>
              <a:gd name="adj1" fmla="val 50976"/>
              <a:gd name="adj2" fmla="val 8959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I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n who makes and enforces law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traight Connector 8"/>
          <p:cNvSpPr/>
          <p:nvPr/>
        </p:nvSpPr>
        <p:spPr>
          <a:xfrm>
            <a:off x="6207120" y="1119240"/>
            <a:ext cx="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17"/>
          <p:cNvGrpSpPr/>
          <p:nvPr/>
        </p:nvGrpSpPr>
        <p:grpSpPr>
          <a:xfrm>
            <a:off x="6095880" y="533520"/>
            <a:ext cx="762120" cy="685800"/>
            <a:chOff x="6095880" y="533520"/>
            <a:chExt cx="762120" cy="685800"/>
          </a:xfrm>
        </p:grpSpPr>
        <p:sp>
          <p:nvSpPr>
            <p:cNvPr id="423" name="Oval 6"/>
            <p:cNvSpPr/>
            <p:nvPr/>
          </p:nvSpPr>
          <p:spPr>
            <a:xfrm>
              <a:off x="609588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Straight Connector 10"/>
            <p:cNvSpPr/>
            <p:nvPr/>
          </p:nvSpPr>
          <p:spPr>
            <a:xfrm flipV="1">
              <a:off x="620676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Straight Connector 11"/>
            <p:cNvSpPr/>
            <p:nvPr/>
          </p:nvSpPr>
          <p:spPr>
            <a:xfrm flipH="1" flipV="1">
              <a:off x="647712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Straight Connector 15"/>
            <p:cNvSpPr/>
            <p:nvPr/>
          </p:nvSpPr>
          <p:spPr>
            <a:xfrm>
              <a:off x="631980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18"/>
          <p:cNvGrpSpPr/>
          <p:nvPr/>
        </p:nvGrpSpPr>
        <p:grpSpPr>
          <a:xfrm>
            <a:off x="2286000" y="533520"/>
            <a:ext cx="762120" cy="685800"/>
            <a:chOff x="2286000" y="533520"/>
            <a:chExt cx="762120" cy="685800"/>
          </a:xfrm>
        </p:grpSpPr>
        <p:sp>
          <p:nvSpPr>
            <p:cNvPr id="428" name="Oval 19"/>
            <p:cNvSpPr/>
            <p:nvPr/>
          </p:nvSpPr>
          <p:spPr>
            <a:xfrm>
              <a:off x="228600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Straight Connector 20"/>
            <p:cNvSpPr/>
            <p:nvPr/>
          </p:nvSpPr>
          <p:spPr>
            <a:xfrm flipV="1">
              <a:off x="239688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Straight Connector 21"/>
            <p:cNvSpPr/>
            <p:nvPr/>
          </p:nvSpPr>
          <p:spPr>
            <a:xfrm flipH="1" flipV="1">
              <a:off x="266724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Straight Connector 22"/>
            <p:cNvSpPr/>
            <p:nvPr/>
          </p:nvSpPr>
          <p:spPr>
            <a:xfrm>
              <a:off x="250992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Harrington"/>
              </a:rPr>
              <a:t>Forms of Governmen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1219320" y="144792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people decide to form the social contracts that we call governments, they make many different decisions about how their government will loo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 rot="20601600">
            <a:off x="529560" y="3759120"/>
            <a:ext cx="32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ident or Ki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3657600" y="38862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le by few or rule by all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 rot="1314600">
            <a:off x="5950080" y="48704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ld elect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106668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re do the rulers get their pow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Group 5"/>
          <p:cNvGrpSpPr/>
          <p:nvPr/>
        </p:nvGrpSpPr>
        <p:grpSpPr>
          <a:xfrm>
            <a:off x="902160" y="123840"/>
            <a:ext cx="772560" cy="677520"/>
            <a:chOff x="902160" y="123840"/>
            <a:chExt cx="772560" cy="677520"/>
          </a:xfrm>
        </p:grpSpPr>
        <p:sp>
          <p:nvSpPr>
            <p:cNvPr id="250" name="Freeform 7"/>
            <p:cNvSpPr/>
            <p:nvPr/>
          </p:nvSpPr>
          <p:spPr>
            <a:xfrm rot="20157000">
              <a:off x="966960" y="234720"/>
              <a:ext cx="642600" cy="4554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8"/>
            <p:cNvSpPr/>
            <p:nvPr/>
          </p:nvSpPr>
          <p:spPr>
            <a:xfrm rot="20157000">
              <a:off x="1232640" y="241200"/>
              <a:ext cx="291960" cy="1479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9"/>
            <p:cNvSpPr/>
            <p:nvPr/>
          </p:nvSpPr>
          <p:spPr>
            <a:xfrm rot="20157000">
              <a:off x="1239840" y="322560"/>
              <a:ext cx="140040" cy="828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0"/>
            <p:cNvSpPr/>
            <p:nvPr/>
          </p:nvSpPr>
          <p:spPr>
            <a:xfrm rot="20157000">
              <a:off x="1153800" y="379080"/>
              <a:ext cx="91080" cy="83880"/>
            </a:xfrm>
            <a:custGeom>
              <a:avLst/>
              <a:gdLst>
                <a:gd name="textAreaLeft" fmla="*/ 0 w 91080"/>
                <a:gd name="textAreaRight" fmla="*/ 91080 w 91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1"/>
            <p:cNvSpPr/>
            <p:nvPr/>
          </p:nvSpPr>
          <p:spPr>
            <a:xfrm rot="20157000">
              <a:off x="982080" y="402840"/>
              <a:ext cx="236160" cy="1389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2"/>
            <p:cNvSpPr/>
            <p:nvPr/>
          </p:nvSpPr>
          <p:spPr>
            <a:xfrm rot="20157000">
              <a:off x="1164600" y="280080"/>
              <a:ext cx="68040" cy="94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3"/>
            <p:cNvSpPr/>
            <p:nvPr/>
          </p:nvSpPr>
          <p:spPr>
            <a:xfrm rot="20157000">
              <a:off x="1025640" y="391320"/>
              <a:ext cx="583920" cy="2700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 rot="20157000">
              <a:off x="1077480" y="510120"/>
              <a:ext cx="521640" cy="69480"/>
            </a:xfrm>
            <a:custGeom>
              <a:avLst/>
              <a:gdLst>
                <a:gd name="textAreaLeft" fmla="*/ 0 w 521640"/>
                <a:gd name="textAreaRight" fmla="*/ 522000 w 52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 rot="20157000">
              <a:off x="1446480" y="457920"/>
              <a:ext cx="28800" cy="20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 rot="20157000">
              <a:off x="1276560" y="540360"/>
              <a:ext cx="44640" cy="32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 rot="20157000">
              <a:off x="1158480" y="615600"/>
              <a:ext cx="38520" cy="30960"/>
            </a:xfrm>
            <a:custGeom>
              <a:avLst/>
              <a:gdLst>
                <a:gd name="textAreaLeft" fmla="*/ 0 w 38520"/>
                <a:gd name="textAreaRight" fmla="*/ 38520 w 385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 rot="20157000">
              <a:off x="1399680" y="380520"/>
              <a:ext cx="28800" cy="54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 rot="20157000">
              <a:off x="1215720" y="473760"/>
              <a:ext cx="28080" cy="58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 rot="20157000">
              <a:off x="1084320" y="577440"/>
              <a:ext cx="35640" cy="439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 rot="20157000">
              <a:off x="1048680" y="546120"/>
              <a:ext cx="60840" cy="2192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 rot="20157000">
              <a:off x="1018800" y="389880"/>
              <a:ext cx="595800" cy="275040"/>
            </a:xfrm>
            <a:custGeom>
              <a:avLst/>
              <a:gdLst>
                <a:gd name="textAreaLeft" fmla="*/ 0 w 595800"/>
                <a:gd name="textAreaRight" fmla="*/ 596160 w 59580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 rot="20157000">
              <a:off x="1074960" y="506160"/>
              <a:ext cx="525240" cy="76320"/>
            </a:xfrm>
            <a:custGeom>
              <a:avLst/>
              <a:gdLst>
                <a:gd name="textAreaLeft" fmla="*/ 0 w 525240"/>
                <a:gd name="textAreaRight" fmla="*/ 525240 w 52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 rot="20157000">
              <a:off x="1081800" y="569160"/>
              <a:ext cx="32400" cy="64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 rot="20157000">
              <a:off x="1086120" y="565920"/>
              <a:ext cx="39240" cy="67680"/>
            </a:xfrm>
            <a:custGeom>
              <a:avLst/>
              <a:gdLst>
                <a:gd name="textAreaLeft" fmla="*/ 0 w 39240"/>
                <a:gd name="textAreaRight" fmla="*/ 39240 w 3924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 rot="20157000">
              <a:off x="1211760" y="468720"/>
              <a:ext cx="36360" cy="73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 rot="20157000">
              <a:off x="1215720" y="466200"/>
              <a:ext cx="36720" cy="75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 rot="20157000">
              <a:off x="1395720" y="383760"/>
              <a:ext cx="19800" cy="594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 rot="20157000">
              <a:off x="1402560" y="374400"/>
              <a:ext cx="32400" cy="637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 rot="20157000">
              <a:off x="1504440" y="350280"/>
              <a:ext cx="26280" cy="5112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 rot="20157000">
              <a:off x="1150920" y="611640"/>
              <a:ext cx="55440" cy="37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 rot="20157000">
              <a:off x="1274040" y="540000"/>
              <a:ext cx="53280" cy="367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 rot="20157000">
              <a:off x="1443240" y="458640"/>
              <a:ext cx="38520" cy="237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 rot="20157000">
              <a:off x="1175760" y="668160"/>
              <a:ext cx="20520" cy="36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 rot="20157000">
              <a:off x="1289880" y="617760"/>
              <a:ext cx="20880" cy="316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 rot="20157000">
              <a:off x="1418760" y="545760"/>
              <a:ext cx="26640" cy="39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 rot="20157000">
              <a:off x="1524600" y="49860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 rot="20157000">
              <a:off x="974160" y="396720"/>
              <a:ext cx="259920" cy="14544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 rot="20157000">
              <a:off x="1150560" y="375840"/>
              <a:ext cx="101520" cy="918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 rot="20157000">
              <a:off x="1230120" y="317880"/>
              <a:ext cx="157320" cy="96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 rot="20157000">
              <a:off x="1271160" y="275400"/>
              <a:ext cx="216360" cy="11628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 rot="20157000">
              <a:off x="1220760" y="237240"/>
              <a:ext cx="306720" cy="13212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 rot="20157000">
              <a:off x="1156680" y="27432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 rot="20157000">
              <a:off x="1013760" y="474480"/>
              <a:ext cx="29520" cy="144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 rot="20157000">
              <a:off x="1056600" y="426240"/>
              <a:ext cx="22320" cy="23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 rot="20157000">
              <a:off x="997200" y="512640"/>
              <a:ext cx="45000" cy="190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 rot="20157000">
              <a:off x="1185480" y="419760"/>
              <a:ext cx="28080" cy="93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 rot="20157000">
              <a:off x="1194480" y="390240"/>
              <a:ext cx="32400" cy="104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 rot="20157000">
              <a:off x="1324080" y="340560"/>
              <a:ext cx="26640" cy="15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 rot="20157000">
              <a:off x="1353600" y="24336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 rot="20157000">
              <a:off x="1400400" y="239760"/>
              <a:ext cx="20520" cy="2304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 rot="20157000">
              <a:off x="1443240" y="246600"/>
              <a:ext cx="28800" cy="212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 rot="20157000">
              <a:off x="1488240" y="273960"/>
              <a:ext cx="31680" cy="13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 rot="20157000">
              <a:off x="1192680" y="308880"/>
              <a:ext cx="17640" cy="3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y form of government in which political power is exercised by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ll citizen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either directly or through their elected representativ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two kinds of </a:t>
            </a:r>
            <a:r>
              <a:rPr b="0" lang="en-US" sz="3200" spc="-1" strike="noStrike">
                <a:solidFill>
                  <a:srgbClr val="ffc000"/>
                </a:solidFill>
                <a:latin typeface="Harrington"/>
              </a:rPr>
              <a:t>Democraci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0" name="Picture 7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8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302" name="Rounded Rectangular Callout 108"/>
          <p:cNvSpPr/>
          <p:nvPr/>
        </p:nvSpPr>
        <p:spPr>
          <a:xfrm>
            <a:off x="1828800" y="4114800"/>
            <a:ext cx="2895480" cy="1143000"/>
          </a:xfrm>
          <a:prstGeom prst="wedgeRoundRectCallout">
            <a:avLst>
              <a:gd name="adj1" fmla="val -47777"/>
              <a:gd name="adj2" fmla="val 10981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rect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ounded Rectangular Callout 109"/>
          <p:cNvSpPr/>
          <p:nvPr/>
        </p:nvSpPr>
        <p:spPr>
          <a:xfrm>
            <a:off x="4038480" y="4952880"/>
            <a:ext cx="3124440" cy="1143000"/>
          </a:xfrm>
          <a:prstGeom prst="wedgeRoundRectCallout">
            <a:avLst>
              <a:gd name="adj1" fmla="val 60050"/>
              <a:gd name="adj2" fmla="val 7079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presenta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1" descr="lindsey.png"/>
          <p:cNvPicPr/>
          <p:nvPr/>
        </p:nvPicPr>
        <p:blipFill>
          <a:blip r:embed="rId3"/>
          <a:stretch/>
        </p:blipFill>
        <p:spPr>
          <a:xfrm>
            <a:off x="6629400" y="228600"/>
            <a:ext cx="380880" cy="907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frank.png"/>
          <p:cNvPicPr/>
          <p:nvPr/>
        </p:nvPicPr>
        <p:blipFill>
          <a:blip r:embed="rId4"/>
          <a:stretch/>
        </p:blipFill>
        <p:spPr>
          <a:xfrm>
            <a:off x="1981080" y="380880"/>
            <a:ext cx="533520" cy="789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" descr="debbi.png"/>
          <p:cNvPicPr/>
          <p:nvPr/>
        </p:nvPicPr>
        <p:blipFill>
          <a:blip r:embed="rId5"/>
          <a:stretch/>
        </p:blipFill>
        <p:spPr>
          <a:xfrm>
            <a:off x="6400800" y="762120"/>
            <a:ext cx="546120" cy="876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harlan.png"/>
          <p:cNvPicPr/>
          <p:nvPr/>
        </p:nvPicPr>
        <p:blipFill>
          <a:blip r:embed="rId6"/>
          <a:stretch/>
        </p:blipFill>
        <p:spPr>
          <a:xfrm>
            <a:off x="2514600" y="304920"/>
            <a:ext cx="447840" cy="82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officer-slater.png"/>
          <p:cNvPicPr/>
          <p:nvPr/>
        </p:nvPicPr>
        <p:blipFill>
          <a:blip r:embed="rId7"/>
          <a:stretch/>
        </p:blipFill>
        <p:spPr>
          <a:xfrm>
            <a:off x="6172200" y="152280"/>
            <a:ext cx="380880" cy="974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maggie.png"/>
          <p:cNvPicPr/>
          <p:nvPr/>
        </p:nvPicPr>
        <p:blipFill>
          <a:blip r:embed="rId8"/>
          <a:stretch/>
        </p:blipFill>
        <p:spPr>
          <a:xfrm>
            <a:off x="2362320" y="685800"/>
            <a:ext cx="457200" cy="81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gaby.png"/>
          <p:cNvPicPr/>
          <p:nvPr/>
        </p:nvPicPr>
        <p:blipFill>
          <a:blip r:embed="rId9"/>
          <a:stretch/>
        </p:blipFill>
        <p:spPr>
          <a:xfrm>
            <a:off x="1981080" y="838080"/>
            <a:ext cx="4572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Direct 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citizens participate in governme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Picture 3" descr="lindsey.png"/>
          <p:cNvPicPr/>
          <p:nvPr/>
        </p:nvPicPr>
        <p:blipFill>
          <a:blip r:embed="rId1"/>
          <a:stretch/>
        </p:blipFill>
        <p:spPr>
          <a:xfrm>
            <a:off x="914400" y="228600"/>
            <a:ext cx="380880" cy="907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frank.png"/>
          <p:cNvPicPr/>
          <p:nvPr/>
        </p:nvPicPr>
        <p:blipFill>
          <a:blip r:embed="rId2"/>
          <a:stretch/>
        </p:blipFill>
        <p:spPr>
          <a:xfrm>
            <a:off x="1295280" y="380880"/>
            <a:ext cx="533520" cy="789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debbi.png"/>
          <p:cNvPicPr/>
          <p:nvPr/>
        </p:nvPicPr>
        <p:blipFill>
          <a:blip r:embed="rId3"/>
          <a:stretch/>
        </p:blipFill>
        <p:spPr>
          <a:xfrm>
            <a:off x="838080" y="914400"/>
            <a:ext cx="451080" cy="723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harlan.png"/>
          <p:cNvPicPr/>
          <p:nvPr/>
        </p:nvPicPr>
        <p:blipFill>
          <a:blip r:embed="rId4"/>
          <a:stretch/>
        </p:blipFill>
        <p:spPr>
          <a:xfrm>
            <a:off x="1828800" y="304920"/>
            <a:ext cx="447840" cy="828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officer-slater.png"/>
          <p:cNvPicPr/>
          <p:nvPr/>
        </p:nvPicPr>
        <p:blipFill>
          <a:blip r:embed="rId5"/>
          <a:stretch/>
        </p:blipFill>
        <p:spPr>
          <a:xfrm>
            <a:off x="533520" y="304920"/>
            <a:ext cx="380880" cy="974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maggie.png"/>
          <p:cNvPicPr/>
          <p:nvPr/>
        </p:nvPicPr>
        <p:blipFill>
          <a:blip r:embed="rId6"/>
          <a:stretch/>
        </p:blipFill>
        <p:spPr>
          <a:xfrm>
            <a:off x="1676520" y="685800"/>
            <a:ext cx="457200" cy="814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gaby.png"/>
          <p:cNvPicPr/>
          <p:nvPr/>
        </p:nvPicPr>
        <p:blipFill>
          <a:blip r:embed="rId7"/>
          <a:stretch/>
        </p:blipFill>
        <p:spPr>
          <a:xfrm>
            <a:off x="1295280" y="838080"/>
            <a:ext cx="457200" cy="6764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Users\sf6\AppData\Local\Microsoft\Windows\Temporary Internet Files\Content.IE5\LZ0PEN55\MC900280925[1].wmf"/>
          <p:cNvPicPr/>
          <p:nvPr/>
        </p:nvPicPr>
        <p:blipFill>
          <a:blip r:embed="rId8"/>
          <a:stretch/>
        </p:blipFill>
        <p:spPr>
          <a:xfrm>
            <a:off x="6781680" y="304920"/>
            <a:ext cx="1235160" cy="1280880"/>
          </a:xfrm>
          <a:prstGeom prst="rect">
            <a:avLst/>
          </a:prstGeom>
          <a:ln w="0">
            <a:noFill/>
          </a:ln>
        </p:spPr>
      </p:pic>
      <p:sp>
        <p:nvSpPr>
          <p:cNvPr id="321" name="Content Placeholder 2"/>
          <p:cNvSpPr/>
          <p:nvPr/>
        </p:nvSpPr>
        <p:spPr>
          <a:xfrm>
            <a:off x="457200" y="34290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citizens can create public policy if they want 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Content Placeholder 2"/>
          <p:cNvSpPr/>
          <p:nvPr/>
        </p:nvSpPr>
        <p:spPr>
          <a:xfrm>
            <a:off x="457200" y="41911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ample: In ancient Athens, Greece, they held assemblies where citizens voted to pass law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Content Placeholder 2"/>
          <p:cNvSpPr/>
          <p:nvPr/>
        </p:nvSpPr>
        <p:spPr>
          <a:xfrm>
            <a:off x="457200" y="2362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re are no representatives in government: The citizens vote on everything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Representative 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ike direct democracy, all citizens participate in governmen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6" name="Picture 3" descr="george.png"/>
          <p:cNvPicPr/>
          <p:nvPr/>
        </p:nvPicPr>
        <p:blipFill>
          <a:blip r:embed="rId1"/>
          <a:stretch/>
        </p:blipFill>
        <p:spPr>
          <a:xfrm>
            <a:off x="228600" y="228600"/>
            <a:ext cx="666720" cy="1284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sf6\AppData\Local\Microsoft\Windows\Temporary Internet Files\Content.IE5\LZ0PEN55\MC900280925[1].wmf"/>
          <p:cNvPicPr/>
          <p:nvPr/>
        </p:nvPicPr>
        <p:blipFill>
          <a:blip r:embed="rId2"/>
          <a:stretch/>
        </p:blipFill>
        <p:spPr>
          <a:xfrm>
            <a:off x="8077320" y="533520"/>
            <a:ext cx="761760" cy="790560"/>
          </a:xfrm>
          <a:prstGeom prst="rect">
            <a:avLst/>
          </a:prstGeom>
          <a:ln w="0">
            <a:noFill/>
          </a:ln>
        </p:spPr>
      </p:pic>
      <p:sp>
        <p:nvSpPr>
          <p:cNvPr id="328" name="Content Placeholder 2"/>
          <p:cNvSpPr/>
          <p:nvPr/>
        </p:nvSpPr>
        <p:spPr>
          <a:xfrm>
            <a:off x="457200" y="28195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eople elect representatives who vote on laws for the citize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Content Placeholder 2"/>
          <p:cNvSpPr/>
          <p:nvPr/>
        </p:nvSpPr>
        <p:spPr>
          <a:xfrm>
            <a:off x="457200" y="3809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resentatives answer to the people through regular ele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Content Placeholder 2"/>
          <p:cNvSpPr/>
          <p:nvPr/>
        </p:nvSpPr>
        <p:spPr>
          <a:xfrm>
            <a:off x="53352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resentatives are also usually held accountable by a constit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0" descr="harlan.png"/>
          <p:cNvPicPr/>
          <p:nvPr/>
        </p:nvPicPr>
        <p:blipFill>
          <a:blip r:embed="rId1"/>
          <a:stretch/>
        </p:blipFill>
        <p:spPr>
          <a:xfrm>
            <a:off x="2133720" y="3505320"/>
            <a:ext cx="990360" cy="18349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lindsey.png"/>
          <p:cNvPicPr/>
          <p:nvPr/>
        </p:nvPicPr>
        <p:blipFill>
          <a:blip r:embed="rId2"/>
          <a:stretch/>
        </p:blipFill>
        <p:spPr>
          <a:xfrm>
            <a:off x="685800" y="3733920"/>
            <a:ext cx="843120" cy="2009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frank.png"/>
          <p:cNvPicPr/>
          <p:nvPr/>
        </p:nvPicPr>
        <p:blipFill>
          <a:blip r:embed="rId3"/>
          <a:stretch/>
        </p:blipFill>
        <p:spPr>
          <a:xfrm>
            <a:off x="1447920" y="4267080"/>
            <a:ext cx="1181160" cy="1747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debbi.png"/>
          <p:cNvPicPr/>
          <p:nvPr/>
        </p:nvPicPr>
        <p:blipFill>
          <a:blip r:embed="rId4"/>
          <a:stretch/>
        </p:blipFill>
        <p:spPr>
          <a:xfrm>
            <a:off x="609480" y="5256360"/>
            <a:ext cx="998640" cy="1601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1" descr="officer-slater.png"/>
          <p:cNvPicPr/>
          <p:nvPr/>
        </p:nvPicPr>
        <p:blipFill>
          <a:blip r:embed="rId5"/>
          <a:stretch/>
        </p:blipFill>
        <p:spPr>
          <a:xfrm>
            <a:off x="0" y="3809880"/>
            <a:ext cx="843120" cy="2157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2" descr="maggie.png"/>
          <p:cNvPicPr/>
          <p:nvPr/>
        </p:nvPicPr>
        <p:blipFill>
          <a:blip r:embed="rId6"/>
          <a:stretch/>
        </p:blipFill>
        <p:spPr>
          <a:xfrm>
            <a:off x="2438280" y="5054760"/>
            <a:ext cx="1013040" cy="1803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3" descr="gaby.png"/>
          <p:cNvPicPr/>
          <p:nvPr/>
        </p:nvPicPr>
        <p:blipFill>
          <a:blip r:embed="rId7"/>
          <a:stretch/>
        </p:blipFill>
        <p:spPr>
          <a:xfrm>
            <a:off x="1447920" y="5359320"/>
            <a:ext cx="1012680" cy="1498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4" descr="george.png"/>
          <p:cNvPicPr/>
          <p:nvPr/>
        </p:nvPicPr>
        <p:blipFill>
          <a:blip r:embed="rId8"/>
          <a:stretch/>
        </p:blipFill>
        <p:spPr>
          <a:xfrm>
            <a:off x="7597800" y="4191120"/>
            <a:ext cx="1241280" cy="2394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5"/>
          <p:cNvSpPr/>
          <p:nvPr/>
        </p:nvSpPr>
        <p:spPr>
          <a:xfrm>
            <a:off x="304920" y="228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’ve talked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ounded Rectangular Callout 16"/>
          <p:cNvSpPr/>
          <p:nvPr/>
        </p:nvSpPr>
        <p:spPr>
          <a:xfrm>
            <a:off x="2743200" y="914400"/>
            <a:ext cx="5562720" cy="990720"/>
          </a:xfrm>
          <a:prstGeom prst="wedgeRoundRectCallout">
            <a:avLst>
              <a:gd name="adj1" fmla="val -69750"/>
              <a:gd name="adj2" fmla="val 239328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RECT DEMOCRACY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ounded Rectangular Callout 17"/>
          <p:cNvSpPr/>
          <p:nvPr/>
        </p:nvSpPr>
        <p:spPr>
          <a:xfrm>
            <a:off x="1828800" y="1981080"/>
            <a:ext cx="6477120" cy="1295640"/>
          </a:xfrm>
          <a:prstGeom prst="wedgeRoundRectCallout">
            <a:avLst>
              <a:gd name="adj1" fmla="val 41592"/>
              <a:gd name="adj2" fmla="val 10260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PRESENTATIVE DEMOCRAC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18"/>
          <p:cNvSpPr/>
          <p:nvPr/>
        </p:nvSpPr>
        <p:spPr>
          <a:xfrm>
            <a:off x="3733920" y="4038480"/>
            <a:ext cx="373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move on to forms of government where only one person is in control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Aut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form of government in which political power is controlled by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ividual such as a monarch, dictator, emperor, etc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’re going to talk about two kinds of </a:t>
            </a:r>
            <a:r>
              <a:rPr b="0" lang="en-US" sz="3200" spc="-1" strike="noStrike">
                <a:solidFill>
                  <a:srgbClr val="ffc000"/>
                </a:solidFill>
                <a:latin typeface="Harrington"/>
              </a:rPr>
              <a:t>autocrac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Picture 3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347" name="Rounded Rectangular Callout 5"/>
          <p:cNvSpPr/>
          <p:nvPr/>
        </p:nvSpPr>
        <p:spPr>
          <a:xfrm>
            <a:off x="1905120" y="4343400"/>
            <a:ext cx="2895480" cy="1143000"/>
          </a:xfrm>
          <a:prstGeom prst="wedgeRoundRectCallout">
            <a:avLst>
              <a:gd name="adj1" fmla="val -51245"/>
              <a:gd name="adj2" fmla="val 9713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arch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ounded Rectangular Callout 6"/>
          <p:cNvSpPr/>
          <p:nvPr/>
        </p:nvSpPr>
        <p:spPr>
          <a:xfrm>
            <a:off x="3886200" y="5257800"/>
            <a:ext cx="3124080" cy="1143000"/>
          </a:xfrm>
          <a:prstGeom prst="wedgeRoundRectCallout">
            <a:avLst>
              <a:gd name="adj1" fmla="val 60050"/>
              <a:gd name="adj2" fmla="val 7079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ctator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Harrington"/>
              </a:rPr>
              <a:t>Monarchy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ule by kings, queens, princes, and princesses… sometimes by other names, but always MONARCHS!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1143000" cy="903240"/>
          </a:xfrm>
          <a:prstGeom prst="rect">
            <a:avLst/>
          </a:prstGeom>
          <a:ln w="0">
            <a:noFill/>
          </a:ln>
        </p:spPr>
      </p:pic>
      <p:sp>
        <p:nvSpPr>
          <p:cNvPr id="352" name="Content Placeholder 2"/>
          <p:cNvSpPr/>
          <p:nvPr/>
        </p:nvSpPr>
        <p:spPr>
          <a:xfrm>
            <a:off x="457200" y="31240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eaders usually gain their power because their parents were rulers to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Content Placeholder 2"/>
          <p:cNvSpPr/>
          <p:nvPr/>
        </p:nvSpPr>
        <p:spPr>
          <a:xfrm>
            <a:off x="457200" y="42670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ome modern monarchies like Spain and Japan have constitu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Harrington"/>
              </a:rPr>
              <a:t>Dictatorship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 a dictatorship, power is not inherited, but is acquired by force (military or political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56" name="Group 5"/>
          <p:cNvGrpSpPr/>
          <p:nvPr/>
        </p:nvGrpSpPr>
        <p:grpSpPr>
          <a:xfrm>
            <a:off x="1219320" y="380880"/>
            <a:ext cx="2666880" cy="892440"/>
            <a:chOff x="1219320" y="380880"/>
            <a:chExt cx="2666880" cy="892440"/>
          </a:xfrm>
        </p:grpSpPr>
        <p:sp>
          <p:nvSpPr>
            <p:cNvPr id="357" name="AutoShape 4"/>
            <p:cNvSpPr/>
            <p:nvPr/>
          </p:nvSpPr>
          <p:spPr>
            <a:xfrm>
              <a:off x="1219320" y="380880"/>
              <a:ext cx="266688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32"/>
            <p:cNvSpPr/>
            <p:nvPr/>
          </p:nvSpPr>
          <p:spPr>
            <a:xfrm>
              <a:off x="1219320" y="398520"/>
              <a:ext cx="1366200" cy="873720"/>
            </a:xfrm>
            <a:custGeom>
              <a:avLst/>
              <a:gdLst>
                <a:gd name="textAreaLeft" fmla="*/ 0 w 1366200"/>
                <a:gd name="textAreaRight" fmla="*/ 1366200 w 1366200"/>
                <a:gd name="textAreaTop" fmla="*/ 0 h 873720"/>
                <a:gd name="textAreaBottom" fmla="*/ 874080 h 873720"/>
              </a:gdLst>
              <a:ahLst/>
              <a:rect l="textAreaLeft" t="textAreaTop" r="textAreaRight" b="textAreaBottom"/>
              <a:pathLst>
                <a:path w="1844" h="1068">
                  <a:moveTo>
                    <a:pt x="1568" y="210"/>
                  </a:moveTo>
                  <a:lnTo>
                    <a:pt x="1575" y="210"/>
                  </a:lnTo>
                  <a:lnTo>
                    <a:pt x="1592" y="211"/>
                  </a:lnTo>
                  <a:lnTo>
                    <a:pt x="1617" y="216"/>
                  </a:lnTo>
                  <a:lnTo>
                    <a:pt x="1648" y="223"/>
                  </a:lnTo>
                  <a:lnTo>
                    <a:pt x="1681" y="234"/>
                  </a:lnTo>
                  <a:lnTo>
                    <a:pt x="1715" y="249"/>
                  </a:lnTo>
                  <a:lnTo>
                    <a:pt x="1745" y="271"/>
                  </a:lnTo>
                  <a:lnTo>
                    <a:pt x="1771" y="298"/>
                  </a:lnTo>
                  <a:lnTo>
                    <a:pt x="1773" y="301"/>
                  </a:lnTo>
                  <a:lnTo>
                    <a:pt x="1778" y="309"/>
                  </a:lnTo>
                  <a:lnTo>
                    <a:pt x="1781" y="320"/>
                  </a:lnTo>
                  <a:lnTo>
                    <a:pt x="1786" y="335"/>
                  </a:lnTo>
                  <a:lnTo>
                    <a:pt x="1786" y="350"/>
                  </a:lnTo>
                  <a:lnTo>
                    <a:pt x="1781" y="365"/>
                  </a:lnTo>
                  <a:lnTo>
                    <a:pt x="1771" y="381"/>
                  </a:lnTo>
                  <a:lnTo>
                    <a:pt x="1751" y="395"/>
                  </a:lnTo>
                  <a:lnTo>
                    <a:pt x="1754" y="395"/>
                  </a:lnTo>
                  <a:lnTo>
                    <a:pt x="1764" y="396"/>
                  </a:lnTo>
                  <a:lnTo>
                    <a:pt x="1778" y="399"/>
                  </a:lnTo>
                  <a:lnTo>
                    <a:pt x="1795" y="405"/>
                  </a:lnTo>
                  <a:lnTo>
                    <a:pt x="1810" y="414"/>
                  </a:lnTo>
                  <a:lnTo>
                    <a:pt x="1824" y="427"/>
                  </a:lnTo>
                  <a:lnTo>
                    <a:pt x="1834" y="443"/>
                  </a:lnTo>
                  <a:lnTo>
                    <a:pt x="1839" y="465"/>
                  </a:lnTo>
                  <a:lnTo>
                    <a:pt x="1841" y="468"/>
                  </a:lnTo>
                  <a:lnTo>
                    <a:pt x="1843" y="476"/>
                  </a:lnTo>
                  <a:lnTo>
                    <a:pt x="1844" y="488"/>
                  </a:lnTo>
                  <a:lnTo>
                    <a:pt x="1843" y="503"/>
                  </a:lnTo>
                  <a:lnTo>
                    <a:pt x="1836" y="520"/>
                  </a:lnTo>
                  <a:lnTo>
                    <a:pt x="1820" y="538"/>
                  </a:lnTo>
                  <a:lnTo>
                    <a:pt x="1798" y="556"/>
                  </a:lnTo>
                  <a:lnTo>
                    <a:pt x="1762" y="573"/>
                  </a:lnTo>
                  <a:lnTo>
                    <a:pt x="1769" y="578"/>
                  </a:lnTo>
                  <a:lnTo>
                    <a:pt x="1786" y="589"/>
                  </a:lnTo>
                  <a:lnTo>
                    <a:pt x="1803" y="607"/>
                  </a:lnTo>
                  <a:lnTo>
                    <a:pt x="1812" y="630"/>
                  </a:lnTo>
                  <a:lnTo>
                    <a:pt x="1812" y="633"/>
                  </a:lnTo>
                  <a:lnTo>
                    <a:pt x="1814" y="644"/>
                  </a:lnTo>
                  <a:lnTo>
                    <a:pt x="1812" y="659"/>
                  </a:lnTo>
                  <a:lnTo>
                    <a:pt x="1809" y="677"/>
                  </a:lnTo>
                  <a:lnTo>
                    <a:pt x="1800" y="697"/>
                  </a:lnTo>
                  <a:lnTo>
                    <a:pt x="1785" y="717"/>
                  </a:lnTo>
                  <a:lnTo>
                    <a:pt x="1762" y="734"/>
                  </a:lnTo>
                  <a:lnTo>
                    <a:pt x="1732" y="749"/>
                  </a:lnTo>
                  <a:lnTo>
                    <a:pt x="1751" y="767"/>
                  </a:lnTo>
                  <a:lnTo>
                    <a:pt x="1762" y="786"/>
                  </a:lnTo>
                  <a:lnTo>
                    <a:pt x="1768" y="802"/>
                  </a:lnTo>
                  <a:lnTo>
                    <a:pt x="1769" y="818"/>
                  </a:lnTo>
                  <a:lnTo>
                    <a:pt x="1766" y="832"/>
                  </a:lnTo>
                  <a:lnTo>
                    <a:pt x="1764" y="842"/>
                  </a:lnTo>
                  <a:lnTo>
                    <a:pt x="1761" y="848"/>
                  </a:lnTo>
                  <a:lnTo>
                    <a:pt x="1759" y="851"/>
                  </a:lnTo>
                  <a:lnTo>
                    <a:pt x="1756" y="877"/>
                  </a:lnTo>
                  <a:lnTo>
                    <a:pt x="1740" y="900"/>
                  </a:lnTo>
                  <a:lnTo>
                    <a:pt x="1716" y="919"/>
                  </a:lnTo>
                  <a:lnTo>
                    <a:pt x="1691" y="934"/>
                  </a:lnTo>
                  <a:lnTo>
                    <a:pt x="1664" y="945"/>
                  </a:lnTo>
                  <a:lnTo>
                    <a:pt x="1640" y="952"/>
                  </a:lnTo>
                  <a:lnTo>
                    <a:pt x="1623" y="957"/>
                  </a:lnTo>
                  <a:lnTo>
                    <a:pt x="1616" y="958"/>
                  </a:lnTo>
                  <a:lnTo>
                    <a:pt x="1611" y="960"/>
                  </a:lnTo>
                  <a:lnTo>
                    <a:pt x="1600" y="963"/>
                  </a:lnTo>
                  <a:lnTo>
                    <a:pt x="1583" y="969"/>
                  </a:lnTo>
                  <a:lnTo>
                    <a:pt x="1561" y="975"/>
                  </a:lnTo>
                  <a:lnTo>
                    <a:pt x="1539" y="980"/>
                  </a:lnTo>
                  <a:lnTo>
                    <a:pt x="1517" y="983"/>
                  </a:lnTo>
                  <a:lnTo>
                    <a:pt x="1496" y="984"/>
                  </a:lnTo>
                  <a:lnTo>
                    <a:pt x="1481" y="983"/>
                  </a:lnTo>
                  <a:lnTo>
                    <a:pt x="1476" y="984"/>
                  </a:lnTo>
                  <a:lnTo>
                    <a:pt x="1464" y="987"/>
                  </a:lnTo>
                  <a:lnTo>
                    <a:pt x="1445" y="993"/>
                  </a:lnTo>
                  <a:lnTo>
                    <a:pt x="1418" y="1001"/>
                  </a:lnTo>
                  <a:lnTo>
                    <a:pt x="1387" y="1009"/>
                  </a:lnTo>
                  <a:lnTo>
                    <a:pt x="1351" y="1018"/>
                  </a:lnTo>
                  <a:lnTo>
                    <a:pt x="1314" y="1027"/>
                  </a:lnTo>
                  <a:lnTo>
                    <a:pt x="1273" y="1036"/>
                  </a:lnTo>
                  <a:lnTo>
                    <a:pt x="1230" y="1045"/>
                  </a:lnTo>
                  <a:lnTo>
                    <a:pt x="1187" y="1053"/>
                  </a:lnTo>
                  <a:lnTo>
                    <a:pt x="1145" y="1059"/>
                  </a:lnTo>
                  <a:lnTo>
                    <a:pt x="1104" y="1065"/>
                  </a:lnTo>
                  <a:lnTo>
                    <a:pt x="1066" y="1067"/>
                  </a:lnTo>
                  <a:lnTo>
                    <a:pt x="1032" y="1068"/>
                  </a:lnTo>
                  <a:lnTo>
                    <a:pt x="1002" y="1065"/>
                  </a:lnTo>
                  <a:lnTo>
                    <a:pt x="978" y="1059"/>
                  </a:lnTo>
                  <a:lnTo>
                    <a:pt x="973" y="1058"/>
                  </a:lnTo>
                  <a:lnTo>
                    <a:pt x="959" y="1055"/>
                  </a:lnTo>
                  <a:lnTo>
                    <a:pt x="940" y="1050"/>
                  </a:lnTo>
                  <a:lnTo>
                    <a:pt x="916" y="1041"/>
                  </a:lnTo>
                  <a:lnTo>
                    <a:pt x="889" y="1032"/>
                  </a:lnTo>
                  <a:lnTo>
                    <a:pt x="862" y="1018"/>
                  </a:lnTo>
                  <a:lnTo>
                    <a:pt x="834" y="1004"/>
                  </a:lnTo>
                  <a:lnTo>
                    <a:pt x="810" y="986"/>
                  </a:lnTo>
                  <a:lnTo>
                    <a:pt x="107" y="1024"/>
                  </a:lnTo>
                  <a:lnTo>
                    <a:pt x="0" y="190"/>
                  </a:lnTo>
                  <a:lnTo>
                    <a:pt x="590" y="320"/>
                  </a:lnTo>
                  <a:lnTo>
                    <a:pt x="592" y="318"/>
                  </a:lnTo>
                  <a:lnTo>
                    <a:pt x="597" y="315"/>
                  </a:lnTo>
                  <a:lnTo>
                    <a:pt x="606" y="306"/>
                  </a:lnTo>
                  <a:lnTo>
                    <a:pt x="619" y="291"/>
                  </a:lnTo>
                  <a:lnTo>
                    <a:pt x="635" y="266"/>
                  </a:lnTo>
                  <a:lnTo>
                    <a:pt x="655" y="233"/>
                  </a:lnTo>
                  <a:lnTo>
                    <a:pt x="679" y="188"/>
                  </a:lnTo>
                  <a:lnTo>
                    <a:pt x="706" y="130"/>
                  </a:lnTo>
                  <a:lnTo>
                    <a:pt x="708" y="126"/>
                  </a:lnTo>
                  <a:lnTo>
                    <a:pt x="715" y="115"/>
                  </a:lnTo>
                  <a:lnTo>
                    <a:pt x="729" y="98"/>
                  </a:lnTo>
                  <a:lnTo>
                    <a:pt x="747" y="80"/>
                  </a:lnTo>
                  <a:lnTo>
                    <a:pt x="776" y="61"/>
                  </a:lnTo>
                  <a:lnTo>
                    <a:pt x="812" y="43"/>
                  </a:lnTo>
                  <a:lnTo>
                    <a:pt x="858" y="31"/>
                  </a:lnTo>
                  <a:lnTo>
                    <a:pt x="916" y="25"/>
                  </a:lnTo>
                  <a:lnTo>
                    <a:pt x="920" y="25"/>
                  </a:lnTo>
                  <a:lnTo>
                    <a:pt x="928" y="23"/>
                  </a:lnTo>
                  <a:lnTo>
                    <a:pt x="942" y="20"/>
                  </a:lnTo>
                  <a:lnTo>
                    <a:pt x="959" y="17"/>
                  </a:lnTo>
                  <a:lnTo>
                    <a:pt x="983" y="14"/>
                  </a:lnTo>
                  <a:lnTo>
                    <a:pt x="1010" y="11"/>
                  </a:lnTo>
                  <a:lnTo>
                    <a:pt x="1041" y="8"/>
                  </a:lnTo>
                  <a:lnTo>
                    <a:pt x="1075" y="5"/>
                  </a:lnTo>
                  <a:lnTo>
                    <a:pt x="1111" y="2"/>
                  </a:lnTo>
                  <a:lnTo>
                    <a:pt x="1152" y="2"/>
                  </a:lnTo>
                  <a:lnTo>
                    <a:pt x="1193" y="0"/>
                  </a:lnTo>
                  <a:lnTo>
                    <a:pt x="1237" y="2"/>
                  </a:lnTo>
                  <a:lnTo>
                    <a:pt x="1283" y="5"/>
                  </a:lnTo>
                  <a:lnTo>
                    <a:pt x="1331" y="9"/>
                  </a:lnTo>
                  <a:lnTo>
                    <a:pt x="1379" y="16"/>
                  </a:lnTo>
                  <a:lnTo>
                    <a:pt x="1426" y="25"/>
                  </a:lnTo>
                  <a:lnTo>
                    <a:pt x="1430" y="28"/>
                  </a:lnTo>
                  <a:lnTo>
                    <a:pt x="1438" y="37"/>
                  </a:lnTo>
                  <a:lnTo>
                    <a:pt x="1454" y="54"/>
                  </a:lnTo>
                  <a:lnTo>
                    <a:pt x="1472" y="75"/>
                  </a:lnTo>
                  <a:lnTo>
                    <a:pt x="1493" y="101"/>
                  </a:lnTo>
                  <a:lnTo>
                    <a:pt x="1517" y="133"/>
                  </a:lnTo>
                  <a:lnTo>
                    <a:pt x="1542" y="170"/>
                  </a:lnTo>
                  <a:lnTo>
                    <a:pt x="1568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33"/>
            <p:cNvSpPr/>
            <p:nvPr/>
          </p:nvSpPr>
          <p:spPr>
            <a:xfrm>
              <a:off x="1296360" y="466560"/>
              <a:ext cx="1080720" cy="723960"/>
            </a:xfrm>
            <a:custGeom>
              <a:avLst/>
              <a:gdLst/>
              <a:ahLst/>
              <a:rect l="l" t="t" r="r" b="b"/>
              <a:pathLst>
                <a:path w="1459" h="885">
                  <a:moveTo>
                    <a:pt x="875" y="587"/>
                  </a:moveTo>
                  <a:lnTo>
                    <a:pt x="884" y="587"/>
                  </a:lnTo>
                  <a:lnTo>
                    <a:pt x="904" y="583"/>
                  </a:lnTo>
                  <a:lnTo>
                    <a:pt x="933" y="574"/>
                  </a:lnTo>
                  <a:lnTo>
                    <a:pt x="966" y="554"/>
                  </a:lnTo>
                  <a:lnTo>
                    <a:pt x="998" y="521"/>
                  </a:lnTo>
                  <a:lnTo>
                    <a:pt x="1025" y="470"/>
                  </a:lnTo>
                  <a:lnTo>
                    <a:pt x="1043" y="399"/>
                  </a:lnTo>
                  <a:lnTo>
                    <a:pt x="1044" y="302"/>
                  </a:lnTo>
                  <a:lnTo>
                    <a:pt x="1046" y="302"/>
                  </a:lnTo>
                  <a:lnTo>
                    <a:pt x="1049" y="301"/>
                  </a:lnTo>
                  <a:lnTo>
                    <a:pt x="1056" y="299"/>
                  </a:lnTo>
                  <a:lnTo>
                    <a:pt x="1065" y="298"/>
                  </a:lnTo>
                  <a:lnTo>
                    <a:pt x="1073" y="295"/>
                  </a:lnTo>
                  <a:lnTo>
                    <a:pt x="1085" y="290"/>
                  </a:lnTo>
                  <a:lnTo>
                    <a:pt x="1097" y="286"/>
                  </a:lnTo>
                  <a:lnTo>
                    <a:pt x="1111" y="279"/>
                  </a:lnTo>
                  <a:lnTo>
                    <a:pt x="1107" y="281"/>
                  </a:lnTo>
                  <a:lnTo>
                    <a:pt x="1099" y="284"/>
                  </a:lnTo>
                  <a:lnTo>
                    <a:pt x="1089" y="290"/>
                  </a:lnTo>
                  <a:lnTo>
                    <a:pt x="1078" y="299"/>
                  </a:lnTo>
                  <a:lnTo>
                    <a:pt x="1070" y="310"/>
                  </a:lnTo>
                  <a:lnTo>
                    <a:pt x="1066" y="325"/>
                  </a:lnTo>
                  <a:lnTo>
                    <a:pt x="1070" y="342"/>
                  </a:lnTo>
                  <a:lnTo>
                    <a:pt x="1085" y="362"/>
                  </a:lnTo>
                  <a:lnTo>
                    <a:pt x="1082" y="370"/>
                  </a:lnTo>
                  <a:lnTo>
                    <a:pt x="1077" y="388"/>
                  </a:lnTo>
                  <a:lnTo>
                    <a:pt x="1073" y="415"/>
                  </a:lnTo>
                  <a:lnTo>
                    <a:pt x="1078" y="451"/>
                  </a:lnTo>
                  <a:lnTo>
                    <a:pt x="1077" y="452"/>
                  </a:lnTo>
                  <a:lnTo>
                    <a:pt x="1070" y="458"/>
                  </a:lnTo>
                  <a:lnTo>
                    <a:pt x="1063" y="467"/>
                  </a:lnTo>
                  <a:lnTo>
                    <a:pt x="1058" y="478"/>
                  </a:lnTo>
                  <a:lnTo>
                    <a:pt x="1054" y="490"/>
                  </a:lnTo>
                  <a:lnTo>
                    <a:pt x="1056" y="504"/>
                  </a:lnTo>
                  <a:lnTo>
                    <a:pt x="1065" y="516"/>
                  </a:lnTo>
                  <a:lnTo>
                    <a:pt x="1082" y="530"/>
                  </a:lnTo>
                  <a:lnTo>
                    <a:pt x="1080" y="530"/>
                  </a:lnTo>
                  <a:lnTo>
                    <a:pt x="1077" y="535"/>
                  </a:lnTo>
                  <a:lnTo>
                    <a:pt x="1073" y="547"/>
                  </a:lnTo>
                  <a:lnTo>
                    <a:pt x="1075" y="570"/>
                  </a:lnTo>
                  <a:lnTo>
                    <a:pt x="1073" y="574"/>
                  </a:lnTo>
                  <a:lnTo>
                    <a:pt x="1072" y="587"/>
                  </a:lnTo>
                  <a:lnTo>
                    <a:pt x="1068" y="605"/>
                  </a:lnTo>
                  <a:lnTo>
                    <a:pt x="1066" y="626"/>
                  </a:lnTo>
                  <a:lnTo>
                    <a:pt x="1068" y="649"/>
                  </a:lnTo>
                  <a:lnTo>
                    <a:pt x="1075" y="671"/>
                  </a:lnTo>
                  <a:lnTo>
                    <a:pt x="1089" y="689"/>
                  </a:lnTo>
                  <a:lnTo>
                    <a:pt x="1109" y="701"/>
                  </a:lnTo>
                  <a:lnTo>
                    <a:pt x="1109" y="704"/>
                  </a:lnTo>
                  <a:lnTo>
                    <a:pt x="1109" y="715"/>
                  </a:lnTo>
                  <a:lnTo>
                    <a:pt x="1109" y="732"/>
                  </a:lnTo>
                  <a:lnTo>
                    <a:pt x="1112" y="755"/>
                  </a:lnTo>
                  <a:lnTo>
                    <a:pt x="1114" y="758"/>
                  </a:lnTo>
                  <a:lnTo>
                    <a:pt x="1118" y="765"/>
                  </a:lnTo>
                  <a:lnTo>
                    <a:pt x="1123" y="776"/>
                  </a:lnTo>
                  <a:lnTo>
                    <a:pt x="1130" y="790"/>
                  </a:lnTo>
                  <a:lnTo>
                    <a:pt x="1138" y="805"/>
                  </a:lnTo>
                  <a:lnTo>
                    <a:pt x="1150" y="822"/>
                  </a:lnTo>
                  <a:lnTo>
                    <a:pt x="1162" y="837"/>
                  </a:lnTo>
                  <a:lnTo>
                    <a:pt x="1177" y="852"/>
                  </a:lnTo>
                  <a:lnTo>
                    <a:pt x="1143" y="869"/>
                  </a:lnTo>
                  <a:lnTo>
                    <a:pt x="1140" y="871"/>
                  </a:lnTo>
                  <a:lnTo>
                    <a:pt x="1128" y="872"/>
                  </a:lnTo>
                  <a:lnTo>
                    <a:pt x="1111" y="875"/>
                  </a:lnTo>
                  <a:lnTo>
                    <a:pt x="1089" y="880"/>
                  </a:lnTo>
                  <a:lnTo>
                    <a:pt x="1060" y="883"/>
                  </a:lnTo>
                  <a:lnTo>
                    <a:pt x="1027" y="885"/>
                  </a:lnTo>
                  <a:lnTo>
                    <a:pt x="991" y="885"/>
                  </a:lnTo>
                  <a:lnTo>
                    <a:pt x="952" y="883"/>
                  </a:lnTo>
                  <a:lnTo>
                    <a:pt x="911" y="877"/>
                  </a:lnTo>
                  <a:lnTo>
                    <a:pt x="869" y="869"/>
                  </a:lnTo>
                  <a:lnTo>
                    <a:pt x="824" y="855"/>
                  </a:lnTo>
                  <a:lnTo>
                    <a:pt x="780" y="837"/>
                  </a:lnTo>
                  <a:lnTo>
                    <a:pt x="737" y="813"/>
                  </a:lnTo>
                  <a:lnTo>
                    <a:pt x="694" y="784"/>
                  </a:lnTo>
                  <a:lnTo>
                    <a:pt x="654" y="745"/>
                  </a:lnTo>
                  <a:lnTo>
                    <a:pt x="616" y="701"/>
                  </a:lnTo>
                  <a:lnTo>
                    <a:pt x="616" y="716"/>
                  </a:lnTo>
                  <a:lnTo>
                    <a:pt x="619" y="755"/>
                  </a:lnTo>
                  <a:lnTo>
                    <a:pt x="628" y="800"/>
                  </a:lnTo>
                  <a:lnTo>
                    <a:pt x="647" y="842"/>
                  </a:lnTo>
                  <a:lnTo>
                    <a:pt x="43" y="860"/>
                  </a:lnTo>
                  <a:lnTo>
                    <a:pt x="43" y="810"/>
                  </a:lnTo>
                  <a:lnTo>
                    <a:pt x="38" y="677"/>
                  </a:lnTo>
                  <a:lnTo>
                    <a:pt x="24" y="489"/>
                  </a:lnTo>
                  <a:lnTo>
                    <a:pt x="0" y="275"/>
                  </a:lnTo>
                  <a:lnTo>
                    <a:pt x="509" y="357"/>
                  </a:lnTo>
                  <a:lnTo>
                    <a:pt x="510" y="380"/>
                  </a:lnTo>
                  <a:lnTo>
                    <a:pt x="515" y="432"/>
                  </a:lnTo>
                  <a:lnTo>
                    <a:pt x="531" y="498"/>
                  </a:lnTo>
                  <a:lnTo>
                    <a:pt x="556" y="553"/>
                  </a:lnTo>
                  <a:lnTo>
                    <a:pt x="558" y="542"/>
                  </a:lnTo>
                  <a:lnTo>
                    <a:pt x="561" y="510"/>
                  </a:lnTo>
                  <a:lnTo>
                    <a:pt x="570" y="463"/>
                  </a:lnTo>
                  <a:lnTo>
                    <a:pt x="584" y="402"/>
                  </a:lnTo>
                  <a:lnTo>
                    <a:pt x="606" y="334"/>
                  </a:lnTo>
                  <a:lnTo>
                    <a:pt x="636" y="260"/>
                  </a:lnTo>
                  <a:lnTo>
                    <a:pt x="679" y="186"/>
                  </a:lnTo>
                  <a:lnTo>
                    <a:pt x="734" y="114"/>
                  </a:lnTo>
                  <a:lnTo>
                    <a:pt x="735" y="111"/>
                  </a:lnTo>
                  <a:lnTo>
                    <a:pt x="741" y="102"/>
                  </a:lnTo>
                  <a:lnTo>
                    <a:pt x="751" y="90"/>
                  </a:lnTo>
                  <a:lnTo>
                    <a:pt x="764" y="76"/>
                  </a:lnTo>
                  <a:lnTo>
                    <a:pt x="785" y="61"/>
                  </a:lnTo>
                  <a:lnTo>
                    <a:pt x="811" y="46"/>
                  </a:lnTo>
                  <a:lnTo>
                    <a:pt x="843" y="33"/>
                  </a:lnTo>
                  <a:lnTo>
                    <a:pt x="882" y="24"/>
                  </a:lnTo>
                  <a:lnTo>
                    <a:pt x="884" y="24"/>
                  </a:lnTo>
                  <a:lnTo>
                    <a:pt x="891" y="23"/>
                  </a:lnTo>
                  <a:lnTo>
                    <a:pt x="903" y="20"/>
                  </a:lnTo>
                  <a:lnTo>
                    <a:pt x="916" y="18"/>
                  </a:lnTo>
                  <a:lnTo>
                    <a:pt x="935" y="15"/>
                  </a:lnTo>
                  <a:lnTo>
                    <a:pt x="956" y="12"/>
                  </a:lnTo>
                  <a:lnTo>
                    <a:pt x="981" y="7"/>
                  </a:lnTo>
                  <a:lnTo>
                    <a:pt x="1008" y="6"/>
                  </a:lnTo>
                  <a:lnTo>
                    <a:pt x="1039" y="3"/>
                  </a:lnTo>
                  <a:lnTo>
                    <a:pt x="1072" y="1"/>
                  </a:lnTo>
                  <a:lnTo>
                    <a:pt x="1106" y="0"/>
                  </a:lnTo>
                  <a:lnTo>
                    <a:pt x="1142" y="0"/>
                  </a:lnTo>
                  <a:lnTo>
                    <a:pt x="1179" y="1"/>
                  </a:lnTo>
                  <a:lnTo>
                    <a:pt x="1218" y="4"/>
                  </a:lnTo>
                  <a:lnTo>
                    <a:pt x="1258" y="9"/>
                  </a:lnTo>
                  <a:lnTo>
                    <a:pt x="1298" y="15"/>
                  </a:lnTo>
                  <a:lnTo>
                    <a:pt x="1304" y="18"/>
                  </a:lnTo>
                  <a:lnTo>
                    <a:pt x="1316" y="29"/>
                  </a:lnTo>
                  <a:lnTo>
                    <a:pt x="1334" y="47"/>
                  </a:lnTo>
                  <a:lnTo>
                    <a:pt x="1356" y="72"/>
                  </a:lnTo>
                  <a:lnTo>
                    <a:pt x="1382" y="102"/>
                  </a:lnTo>
                  <a:lnTo>
                    <a:pt x="1409" y="139"/>
                  </a:lnTo>
                  <a:lnTo>
                    <a:pt x="1435" y="183"/>
                  </a:lnTo>
                  <a:lnTo>
                    <a:pt x="1459" y="232"/>
                  </a:lnTo>
                  <a:lnTo>
                    <a:pt x="1455" y="234"/>
                  </a:lnTo>
                  <a:lnTo>
                    <a:pt x="1449" y="238"/>
                  </a:lnTo>
                  <a:lnTo>
                    <a:pt x="1437" y="246"/>
                  </a:lnTo>
                  <a:lnTo>
                    <a:pt x="1423" y="252"/>
                  </a:lnTo>
                  <a:lnTo>
                    <a:pt x="1404" y="257"/>
                  </a:lnTo>
                  <a:lnTo>
                    <a:pt x="1385" y="260"/>
                  </a:lnTo>
                  <a:lnTo>
                    <a:pt x="1365" y="258"/>
                  </a:lnTo>
                  <a:lnTo>
                    <a:pt x="1345" y="252"/>
                  </a:lnTo>
                  <a:lnTo>
                    <a:pt x="1343" y="250"/>
                  </a:lnTo>
                  <a:lnTo>
                    <a:pt x="1338" y="247"/>
                  </a:lnTo>
                  <a:lnTo>
                    <a:pt x="1329" y="241"/>
                  </a:lnTo>
                  <a:lnTo>
                    <a:pt x="1317" y="232"/>
                  </a:lnTo>
                  <a:lnTo>
                    <a:pt x="1304" y="218"/>
                  </a:lnTo>
                  <a:lnTo>
                    <a:pt x="1288" y="202"/>
                  </a:lnTo>
                  <a:lnTo>
                    <a:pt x="1269" y="179"/>
                  </a:lnTo>
                  <a:lnTo>
                    <a:pt x="1249" y="153"/>
                  </a:lnTo>
                  <a:lnTo>
                    <a:pt x="1247" y="154"/>
                  </a:lnTo>
                  <a:lnTo>
                    <a:pt x="1244" y="156"/>
                  </a:lnTo>
                  <a:lnTo>
                    <a:pt x="1235" y="159"/>
                  </a:lnTo>
                  <a:lnTo>
                    <a:pt x="1227" y="165"/>
                  </a:lnTo>
                  <a:lnTo>
                    <a:pt x="1213" y="169"/>
                  </a:lnTo>
                  <a:lnTo>
                    <a:pt x="1200" y="177"/>
                  </a:lnTo>
                  <a:lnTo>
                    <a:pt x="1182" y="183"/>
                  </a:lnTo>
                  <a:lnTo>
                    <a:pt x="1164" y="191"/>
                  </a:lnTo>
                  <a:lnTo>
                    <a:pt x="1142" y="198"/>
                  </a:lnTo>
                  <a:lnTo>
                    <a:pt x="1119" y="206"/>
                  </a:lnTo>
                  <a:lnTo>
                    <a:pt x="1095" y="212"/>
                  </a:lnTo>
                  <a:lnTo>
                    <a:pt x="1070" y="220"/>
                  </a:lnTo>
                  <a:lnTo>
                    <a:pt x="1041" y="226"/>
                  </a:lnTo>
                  <a:lnTo>
                    <a:pt x="1014" y="231"/>
                  </a:lnTo>
                  <a:lnTo>
                    <a:pt x="983" y="235"/>
                  </a:lnTo>
                  <a:lnTo>
                    <a:pt x="952" y="238"/>
                  </a:lnTo>
                  <a:lnTo>
                    <a:pt x="954" y="249"/>
                  </a:lnTo>
                  <a:lnTo>
                    <a:pt x="959" y="279"/>
                  </a:lnTo>
                  <a:lnTo>
                    <a:pt x="964" y="322"/>
                  </a:lnTo>
                  <a:lnTo>
                    <a:pt x="964" y="374"/>
                  </a:lnTo>
                  <a:lnTo>
                    <a:pt x="959" y="429"/>
                  </a:lnTo>
                  <a:lnTo>
                    <a:pt x="942" y="480"/>
                  </a:lnTo>
                  <a:lnTo>
                    <a:pt x="913" y="524"/>
                  </a:lnTo>
                  <a:lnTo>
                    <a:pt x="867" y="553"/>
                  </a:lnTo>
                  <a:lnTo>
                    <a:pt x="862" y="554"/>
                  </a:lnTo>
                  <a:lnTo>
                    <a:pt x="848" y="559"/>
                  </a:lnTo>
                  <a:lnTo>
                    <a:pt x="831" y="565"/>
                  </a:lnTo>
                  <a:lnTo>
                    <a:pt x="816" y="571"/>
                  </a:lnTo>
                  <a:lnTo>
                    <a:pt x="807" y="579"/>
                  </a:lnTo>
                  <a:lnTo>
                    <a:pt x="812" y="583"/>
                  </a:lnTo>
                  <a:lnTo>
                    <a:pt x="833" y="587"/>
                  </a:lnTo>
                  <a:lnTo>
                    <a:pt x="875" y="587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34"/>
            <p:cNvSpPr/>
            <p:nvPr/>
          </p:nvSpPr>
          <p:spPr>
            <a:xfrm>
              <a:off x="1315440" y="758880"/>
              <a:ext cx="456120" cy="3963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616" h="485">
                  <a:moveTo>
                    <a:pt x="496" y="327"/>
                  </a:moveTo>
                  <a:lnTo>
                    <a:pt x="17" y="427"/>
                  </a:lnTo>
                  <a:lnTo>
                    <a:pt x="15" y="372"/>
                  </a:lnTo>
                  <a:lnTo>
                    <a:pt x="8" y="280"/>
                  </a:lnTo>
                  <a:lnTo>
                    <a:pt x="3" y="194"/>
                  </a:lnTo>
                  <a:lnTo>
                    <a:pt x="0" y="156"/>
                  </a:lnTo>
                  <a:lnTo>
                    <a:pt x="423" y="184"/>
                  </a:lnTo>
                  <a:lnTo>
                    <a:pt x="426" y="153"/>
                  </a:lnTo>
                  <a:lnTo>
                    <a:pt x="433" y="121"/>
                  </a:lnTo>
                  <a:lnTo>
                    <a:pt x="443" y="91"/>
                  </a:lnTo>
                  <a:lnTo>
                    <a:pt x="454" y="61"/>
                  </a:lnTo>
                  <a:lnTo>
                    <a:pt x="464" y="37"/>
                  </a:lnTo>
                  <a:lnTo>
                    <a:pt x="474" y="17"/>
                  </a:lnTo>
                  <a:lnTo>
                    <a:pt x="481" y="5"/>
                  </a:lnTo>
                  <a:lnTo>
                    <a:pt x="483" y="0"/>
                  </a:lnTo>
                  <a:lnTo>
                    <a:pt x="483" y="11"/>
                  </a:lnTo>
                  <a:lnTo>
                    <a:pt x="483" y="40"/>
                  </a:lnTo>
                  <a:lnTo>
                    <a:pt x="486" y="86"/>
                  </a:lnTo>
                  <a:lnTo>
                    <a:pt x="494" y="146"/>
                  </a:lnTo>
                  <a:lnTo>
                    <a:pt x="510" y="217"/>
                  </a:lnTo>
                  <a:lnTo>
                    <a:pt x="534" y="300"/>
                  </a:lnTo>
                  <a:lnTo>
                    <a:pt x="568" y="390"/>
                  </a:lnTo>
                  <a:lnTo>
                    <a:pt x="616" y="485"/>
                  </a:lnTo>
                  <a:lnTo>
                    <a:pt x="612" y="482"/>
                  </a:lnTo>
                  <a:lnTo>
                    <a:pt x="600" y="472"/>
                  </a:lnTo>
                  <a:lnTo>
                    <a:pt x="585" y="459"/>
                  </a:lnTo>
                  <a:lnTo>
                    <a:pt x="566" y="440"/>
                  </a:lnTo>
                  <a:lnTo>
                    <a:pt x="546" y="417"/>
                  </a:lnTo>
                  <a:lnTo>
                    <a:pt x="525" y="392"/>
                  </a:lnTo>
                  <a:lnTo>
                    <a:pt x="508" y="361"/>
                  </a:lnTo>
                  <a:lnTo>
                    <a:pt x="496" y="327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35"/>
            <p:cNvSpPr/>
            <p:nvPr/>
          </p:nvSpPr>
          <p:spPr>
            <a:xfrm>
              <a:off x="1305000" y="860040"/>
              <a:ext cx="376200" cy="752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08" h="92">
                  <a:moveTo>
                    <a:pt x="508" y="69"/>
                  </a:moveTo>
                  <a:lnTo>
                    <a:pt x="2" y="92"/>
                  </a:lnTo>
                  <a:lnTo>
                    <a:pt x="0" y="0"/>
                  </a:lnTo>
                  <a:lnTo>
                    <a:pt x="50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36"/>
            <p:cNvSpPr/>
            <p:nvPr/>
          </p:nvSpPr>
          <p:spPr>
            <a:xfrm>
              <a:off x="1294920" y="964800"/>
              <a:ext cx="273240" cy="4896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69" h="60">
                  <a:moveTo>
                    <a:pt x="369" y="30"/>
                  </a:moveTo>
                  <a:lnTo>
                    <a:pt x="7" y="60"/>
                  </a:lnTo>
                  <a:lnTo>
                    <a:pt x="0" y="0"/>
                  </a:lnTo>
                  <a:lnTo>
                    <a:pt x="36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37"/>
            <p:cNvSpPr/>
            <p:nvPr/>
          </p:nvSpPr>
          <p:spPr>
            <a:xfrm>
              <a:off x="1823760" y="606600"/>
              <a:ext cx="193320" cy="3387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261" h="414">
                  <a:moveTo>
                    <a:pt x="0" y="412"/>
                  </a:moveTo>
                  <a:lnTo>
                    <a:pt x="5" y="412"/>
                  </a:lnTo>
                  <a:lnTo>
                    <a:pt x="17" y="414"/>
                  </a:lnTo>
                  <a:lnTo>
                    <a:pt x="35" y="414"/>
                  </a:lnTo>
                  <a:lnTo>
                    <a:pt x="58" y="412"/>
                  </a:lnTo>
                  <a:lnTo>
                    <a:pt x="85" y="409"/>
                  </a:lnTo>
                  <a:lnTo>
                    <a:pt x="114" y="402"/>
                  </a:lnTo>
                  <a:lnTo>
                    <a:pt x="145" y="393"/>
                  </a:lnTo>
                  <a:lnTo>
                    <a:pt x="174" y="377"/>
                  </a:lnTo>
                  <a:lnTo>
                    <a:pt x="201" y="357"/>
                  </a:lnTo>
                  <a:lnTo>
                    <a:pt x="225" y="332"/>
                  </a:lnTo>
                  <a:lnTo>
                    <a:pt x="244" y="298"/>
                  </a:lnTo>
                  <a:lnTo>
                    <a:pt x="255" y="257"/>
                  </a:lnTo>
                  <a:lnTo>
                    <a:pt x="261" y="208"/>
                  </a:lnTo>
                  <a:lnTo>
                    <a:pt x="255" y="148"/>
                  </a:lnTo>
                  <a:lnTo>
                    <a:pt x="242" y="79"/>
                  </a:lnTo>
                  <a:lnTo>
                    <a:pt x="215" y="0"/>
                  </a:lnTo>
                  <a:lnTo>
                    <a:pt x="215" y="9"/>
                  </a:lnTo>
                  <a:lnTo>
                    <a:pt x="213" y="35"/>
                  </a:lnTo>
                  <a:lnTo>
                    <a:pt x="204" y="76"/>
                  </a:lnTo>
                  <a:lnTo>
                    <a:pt x="191" y="128"/>
                  </a:lnTo>
                  <a:lnTo>
                    <a:pt x="165" y="191"/>
                  </a:lnTo>
                  <a:lnTo>
                    <a:pt x="128" y="261"/>
                  </a:lnTo>
                  <a:lnTo>
                    <a:pt x="73" y="336"/>
                  </a:lnTo>
                  <a:lnTo>
                    <a:pt x="0" y="412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38"/>
            <p:cNvSpPr/>
            <p:nvPr/>
          </p:nvSpPr>
          <p:spPr>
            <a:xfrm>
              <a:off x="2185200" y="528120"/>
              <a:ext cx="89280" cy="1472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21" h="180">
                  <a:moveTo>
                    <a:pt x="121" y="180"/>
                  </a:moveTo>
                  <a:lnTo>
                    <a:pt x="117" y="174"/>
                  </a:lnTo>
                  <a:lnTo>
                    <a:pt x="105" y="159"/>
                  </a:lnTo>
                  <a:lnTo>
                    <a:pt x="92" y="137"/>
                  </a:lnTo>
                  <a:lnTo>
                    <a:pt x="75" y="110"/>
                  </a:lnTo>
                  <a:lnTo>
                    <a:pt x="56" y="79"/>
                  </a:lnTo>
                  <a:lnTo>
                    <a:pt x="42" y="50"/>
                  </a:lnTo>
                  <a:lnTo>
                    <a:pt x="30" y="23"/>
                  </a:lnTo>
                  <a:lnTo>
                    <a:pt x="27" y="0"/>
                  </a:lnTo>
                  <a:lnTo>
                    <a:pt x="25" y="3"/>
                  </a:lnTo>
                  <a:lnTo>
                    <a:pt x="18" y="13"/>
                  </a:lnTo>
                  <a:lnTo>
                    <a:pt x="11" y="29"/>
                  </a:lnTo>
                  <a:lnTo>
                    <a:pt x="5" y="49"/>
                  </a:lnTo>
                  <a:lnTo>
                    <a:pt x="0" y="72"/>
                  </a:lnTo>
                  <a:lnTo>
                    <a:pt x="0" y="96"/>
                  </a:lnTo>
                  <a:lnTo>
                    <a:pt x="5" y="122"/>
                  </a:lnTo>
                  <a:lnTo>
                    <a:pt x="17" y="146"/>
                  </a:lnTo>
                  <a:lnTo>
                    <a:pt x="121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39"/>
            <p:cNvSpPr/>
            <p:nvPr/>
          </p:nvSpPr>
          <p:spPr>
            <a:xfrm>
              <a:off x="1982880" y="606600"/>
              <a:ext cx="72360" cy="139680"/>
            </a:xfrm>
            <a:custGeom>
              <a:avLst/>
              <a:gdLst/>
              <a:ahLst/>
              <a:rect l="l" t="t" r="r" b="b"/>
              <a:pathLst>
                <a:path w="98" h="171">
                  <a:moveTo>
                    <a:pt x="54" y="171"/>
                  </a:moveTo>
                  <a:lnTo>
                    <a:pt x="52" y="167"/>
                  </a:lnTo>
                  <a:lnTo>
                    <a:pt x="51" y="151"/>
                  </a:lnTo>
                  <a:lnTo>
                    <a:pt x="46" y="131"/>
                  </a:lnTo>
                  <a:lnTo>
                    <a:pt x="40" y="105"/>
                  </a:lnTo>
                  <a:lnTo>
                    <a:pt x="32" y="76"/>
                  </a:lnTo>
                  <a:lnTo>
                    <a:pt x="22" y="49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3" y="1"/>
                  </a:lnTo>
                  <a:lnTo>
                    <a:pt x="11" y="8"/>
                  </a:lnTo>
                  <a:lnTo>
                    <a:pt x="25" y="15"/>
                  </a:lnTo>
                  <a:lnTo>
                    <a:pt x="40" y="27"/>
                  </a:lnTo>
                  <a:lnTo>
                    <a:pt x="58" y="43"/>
                  </a:lnTo>
                  <a:lnTo>
                    <a:pt x="73" y="60"/>
                  </a:lnTo>
                  <a:lnTo>
                    <a:pt x="88" y="81"/>
                  </a:lnTo>
                  <a:lnTo>
                    <a:pt x="98" y="104"/>
                  </a:lnTo>
                  <a:lnTo>
                    <a:pt x="5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2185920" y="1040400"/>
              <a:ext cx="312480" cy="113400"/>
            </a:xfrm>
            <a:custGeom>
              <a:avLst/>
              <a:gdLst>
                <a:gd name="textAreaLeft" fmla="*/ 0 w 312480"/>
                <a:gd name="textAreaRight" fmla="*/ 312480 w 31248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422" h="139">
                  <a:moveTo>
                    <a:pt x="372" y="0"/>
                  </a:moveTo>
                  <a:lnTo>
                    <a:pt x="381" y="3"/>
                  </a:lnTo>
                  <a:lnTo>
                    <a:pt x="398" y="12"/>
                  </a:lnTo>
                  <a:lnTo>
                    <a:pt x="413" y="26"/>
                  </a:lnTo>
                  <a:lnTo>
                    <a:pt x="422" y="41"/>
                  </a:lnTo>
                  <a:lnTo>
                    <a:pt x="422" y="49"/>
                  </a:lnTo>
                  <a:lnTo>
                    <a:pt x="418" y="66"/>
                  </a:lnTo>
                  <a:lnTo>
                    <a:pt x="406" y="84"/>
                  </a:lnTo>
                  <a:lnTo>
                    <a:pt x="381" y="98"/>
                  </a:lnTo>
                  <a:lnTo>
                    <a:pt x="379" y="99"/>
                  </a:lnTo>
                  <a:lnTo>
                    <a:pt x="374" y="101"/>
                  </a:lnTo>
                  <a:lnTo>
                    <a:pt x="365" y="106"/>
                  </a:lnTo>
                  <a:lnTo>
                    <a:pt x="355" y="110"/>
                  </a:lnTo>
                  <a:lnTo>
                    <a:pt x="341" y="115"/>
                  </a:lnTo>
                  <a:lnTo>
                    <a:pt x="324" y="121"/>
                  </a:lnTo>
                  <a:lnTo>
                    <a:pt x="304" y="125"/>
                  </a:lnTo>
                  <a:lnTo>
                    <a:pt x="283" y="130"/>
                  </a:lnTo>
                  <a:lnTo>
                    <a:pt x="260" y="135"/>
                  </a:lnTo>
                  <a:lnTo>
                    <a:pt x="232" y="138"/>
                  </a:lnTo>
                  <a:lnTo>
                    <a:pt x="205" y="139"/>
                  </a:lnTo>
                  <a:lnTo>
                    <a:pt x="174" y="139"/>
                  </a:lnTo>
                  <a:lnTo>
                    <a:pt x="144" y="136"/>
                  </a:lnTo>
                  <a:lnTo>
                    <a:pt x="109" y="132"/>
                  </a:lnTo>
                  <a:lnTo>
                    <a:pt x="75" y="124"/>
                  </a:lnTo>
                  <a:lnTo>
                    <a:pt x="39" y="113"/>
                  </a:lnTo>
                  <a:lnTo>
                    <a:pt x="33" y="109"/>
                  </a:lnTo>
                  <a:lnTo>
                    <a:pt x="17" y="96"/>
                  </a:lnTo>
                  <a:lnTo>
                    <a:pt x="4" y="73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12" y="29"/>
                  </a:lnTo>
                  <a:lnTo>
                    <a:pt x="22" y="17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9" y="9"/>
                  </a:lnTo>
                  <a:lnTo>
                    <a:pt x="48" y="11"/>
                  </a:lnTo>
                  <a:lnTo>
                    <a:pt x="58" y="12"/>
                  </a:lnTo>
                  <a:lnTo>
                    <a:pt x="74" y="15"/>
                  </a:lnTo>
                  <a:lnTo>
                    <a:pt x="89" y="17"/>
                  </a:lnTo>
                  <a:lnTo>
                    <a:pt x="109" y="20"/>
                  </a:lnTo>
                  <a:lnTo>
                    <a:pt x="132" y="22"/>
                  </a:lnTo>
                  <a:lnTo>
                    <a:pt x="155" y="22"/>
                  </a:lnTo>
                  <a:lnTo>
                    <a:pt x="181" y="23"/>
                  </a:lnTo>
                  <a:lnTo>
                    <a:pt x="208" y="22"/>
                  </a:lnTo>
                  <a:lnTo>
                    <a:pt x="239" y="20"/>
                  </a:lnTo>
                  <a:lnTo>
                    <a:pt x="270" y="18"/>
                  </a:lnTo>
                  <a:lnTo>
                    <a:pt x="302" y="14"/>
                  </a:lnTo>
                  <a:lnTo>
                    <a:pt x="336" y="8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41"/>
            <p:cNvSpPr/>
            <p:nvPr/>
          </p:nvSpPr>
          <p:spPr>
            <a:xfrm>
              <a:off x="1756080" y="1040400"/>
              <a:ext cx="386640" cy="15372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522" h="188">
                  <a:moveTo>
                    <a:pt x="522" y="168"/>
                  </a:moveTo>
                  <a:lnTo>
                    <a:pt x="519" y="170"/>
                  </a:lnTo>
                  <a:lnTo>
                    <a:pt x="509" y="173"/>
                  </a:lnTo>
                  <a:lnTo>
                    <a:pt x="491" y="176"/>
                  </a:lnTo>
                  <a:lnTo>
                    <a:pt x="469" y="180"/>
                  </a:lnTo>
                  <a:lnTo>
                    <a:pt x="440" y="184"/>
                  </a:lnTo>
                  <a:lnTo>
                    <a:pt x="410" y="187"/>
                  </a:lnTo>
                  <a:lnTo>
                    <a:pt x="374" y="188"/>
                  </a:lnTo>
                  <a:lnTo>
                    <a:pt x="336" y="187"/>
                  </a:lnTo>
                  <a:lnTo>
                    <a:pt x="295" y="182"/>
                  </a:lnTo>
                  <a:lnTo>
                    <a:pt x="253" y="173"/>
                  </a:lnTo>
                  <a:lnTo>
                    <a:pt x="208" y="159"/>
                  </a:lnTo>
                  <a:lnTo>
                    <a:pt x="166" y="141"/>
                  </a:lnTo>
                  <a:lnTo>
                    <a:pt x="121" y="116"/>
                  </a:lnTo>
                  <a:lnTo>
                    <a:pt x="79" y="86"/>
                  </a:lnTo>
                  <a:lnTo>
                    <a:pt x="39" y="48"/>
                  </a:lnTo>
                  <a:lnTo>
                    <a:pt x="0" y="0"/>
                  </a:lnTo>
                  <a:lnTo>
                    <a:pt x="4" y="2"/>
                  </a:lnTo>
                  <a:lnTo>
                    <a:pt x="14" y="6"/>
                  </a:lnTo>
                  <a:lnTo>
                    <a:pt x="31" y="14"/>
                  </a:lnTo>
                  <a:lnTo>
                    <a:pt x="53" y="25"/>
                  </a:lnTo>
                  <a:lnTo>
                    <a:pt x="79" y="35"/>
                  </a:lnTo>
                  <a:lnTo>
                    <a:pt x="109" y="49"/>
                  </a:lnTo>
                  <a:lnTo>
                    <a:pt x="145" y="64"/>
                  </a:lnTo>
                  <a:lnTo>
                    <a:pt x="183" y="78"/>
                  </a:lnTo>
                  <a:lnTo>
                    <a:pt x="222" y="93"/>
                  </a:lnTo>
                  <a:lnTo>
                    <a:pt x="265" y="109"/>
                  </a:lnTo>
                  <a:lnTo>
                    <a:pt x="309" y="122"/>
                  </a:lnTo>
                  <a:lnTo>
                    <a:pt x="352" y="136"/>
                  </a:lnTo>
                  <a:lnTo>
                    <a:pt x="396" y="147"/>
                  </a:lnTo>
                  <a:lnTo>
                    <a:pt x="440" y="156"/>
                  </a:lnTo>
                  <a:lnTo>
                    <a:pt x="481" y="164"/>
                  </a:lnTo>
                  <a:lnTo>
                    <a:pt x="522" y="168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42"/>
            <p:cNvSpPr/>
            <p:nvPr/>
          </p:nvSpPr>
          <p:spPr>
            <a:xfrm>
              <a:off x="1296360" y="691560"/>
              <a:ext cx="379080" cy="946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512" h="116">
                  <a:moveTo>
                    <a:pt x="512" y="116"/>
                  </a:moveTo>
                  <a:lnTo>
                    <a:pt x="10" y="90"/>
                  </a:lnTo>
                  <a:lnTo>
                    <a:pt x="0" y="0"/>
                  </a:lnTo>
                  <a:lnTo>
                    <a:pt x="509" y="82"/>
                  </a:lnTo>
                  <a:lnTo>
                    <a:pt x="512" y="116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43"/>
            <p:cNvSpPr/>
            <p:nvPr/>
          </p:nvSpPr>
          <p:spPr>
            <a:xfrm>
              <a:off x="2314800" y="583560"/>
              <a:ext cx="60480" cy="626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82" h="77">
                  <a:moveTo>
                    <a:pt x="82" y="75"/>
                  </a:moveTo>
                  <a:lnTo>
                    <a:pt x="80" y="75"/>
                  </a:lnTo>
                  <a:lnTo>
                    <a:pt x="77" y="74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3" y="72"/>
                  </a:lnTo>
                  <a:lnTo>
                    <a:pt x="45" y="72"/>
                  </a:lnTo>
                  <a:lnTo>
                    <a:pt x="34" y="74"/>
                  </a:lnTo>
                  <a:lnTo>
                    <a:pt x="24" y="77"/>
                  </a:lnTo>
                  <a:lnTo>
                    <a:pt x="19" y="69"/>
                  </a:lnTo>
                  <a:lnTo>
                    <a:pt x="10" y="51"/>
                  </a:lnTo>
                  <a:lnTo>
                    <a:pt x="2" y="28"/>
                  </a:lnTo>
                  <a:lnTo>
                    <a:pt x="0" y="7"/>
                  </a:lnTo>
                  <a:lnTo>
                    <a:pt x="2" y="5"/>
                  </a:lnTo>
                  <a:lnTo>
                    <a:pt x="9" y="4"/>
                  </a:lnTo>
                  <a:lnTo>
                    <a:pt x="19" y="2"/>
                  </a:lnTo>
                  <a:lnTo>
                    <a:pt x="38" y="0"/>
                  </a:lnTo>
                  <a:lnTo>
                    <a:pt x="82" y="75"/>
                  </a:lnTo>
                  <a:close/>
                </a:path>
              </a:pathLst>
            </a:cu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44"/>
            <p:cNvSpPr/>
            <p:nvPr/>
          </p:nvSpPr>
          <p:spPr>
            <a:xfrm>
              <a:off x="2160720" y="896040"/>
              <a:ext cx="371880" cy="11916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02" h="146">
                  <a:moveTo>
                    <a:pt x="432" y="0"/>
                  </a:moveTo>
                  <a:lnTo>
                    <a:pt x="435" y="0"/>
                  </a:lnTo>
                  <a:lnTo>
                    <a:pt x="442" y="3"/>
                  </a:lnTo>
                  <a:lnTo>
                    <a:pt x="452" y="7"/>
                  </a:lnTo>
                  <a:lnTo>
                    <a:pt x="464" y="11"/>
                  </a:lnTo>
                  <a:lnTo>
                    <a:pt x="476" y="16"/>
                  </a:lnTo>
                  <a:lnTo>
                    <a:pt x="486" y="22"/>
                  </a:lnTo>
                  <a:lnTo>
                    <a:pt x="495" y="29"/>
                  </a:lnTo>
                  <a:lnTo>
                    <a:pt x="500" y="36"/>
                  </a:lnTo>
                  <a:lnTo>
                    <a:pt x="500" y="39"/>
                  </a:lnTo>
                  <a:lnTo>
                    <a:pt x="502" y="45"/>
                  </a:lnTo>
                  <a:lnTo>
                    <a:pt x="500" y="54"/>
                  </a:lnTo>
                  <a:lnTo>
                    <a:pt x="498" y="66"/>
                  </a:lnTo>
                  <a:lnTo>
                    <a:pt x="493" y="77"/>
                  </a:lnTo>
                  <a:lnTo>
                    <a:pt x="486" y="89"/>
                  </a:lnTo>
                  <a:lnTo>
                    <a:pt x="473" y="97"/>
                  </a:lnTo>
                  <a:lnTo>
                    <a:pt x="454" y="103"/>
                  </a:lnTo>
                  <a:lnTo>
                    <a:pt x="452" y="104"/>
                  </a:lnTo>
                  <a:lnTo>
                    <a:pt x="449" y="106"/>
                  </a:lnTo>
                  <a:lnTo>
                    <a:pt x="442" y="109"/>
                  </a:lnTo>
                  <a:lnTo>
                    <a:pt x="432" y="114"/>
                  </a:lnTo>
                  <a:lnTo>
                    <a:pt x="418" y="118"/>
                  </a:lnTo>
                  <a:lnTo>
                    <a:pt x="403" y="123"/>
                  </a:lnTo>
                  <a:lnTo>
                    <a:pt x="382" y="129"/>
                  </a:lnTo>
                  <a:lnTo>
                    <a:pt x="360" y="133"/>
                  </a:lnTo>
                  <a:lnTo>
                    <a:pt x="333" y="138"/>
                  </a:lnTo>
                  <a:lnTo>
                    <a:pt x="304" y="143"/>
                  </a:lnTo>
                  <a:lnTo>
                    <a:pt x="270" y="144"/>
                  </a:lnTo>
                  <a:lnTo>
                    <a:pt x="232" y="146"/>
                  </a:lnTo>
                  <a:lnTo>
                    <a:pt x="191" y="146"/>
                  </a:lnTo>
                  <a:lnTo>
                    <a:pt x="147" y="144"/>
                  </a:lnTo>
                  <a:lnTo>
                    <a:pt x="97" y="139"/>
                  </a:lnTo>
                  <a:lnTo>
                    <a:pt x="44" y="133"/>
                  </a:lnTo>
                  <a:lnTo>
                    <a:pt x="43" y="133"/>
                  </a:lnTo>
                  <a:lnTo>
                    <a:pt x="36" y="130"/>
                  </a:lnTo>
                  <a:lnTo>
                    <a:pt x="27" y="127"/>
                  </a:lnTo>
                  <a:lnTo>
                    <a:pt x="19" y="120"/>
                  </a:lnTo>
                  <a:lnTo>
                    <a:pt x="10" y="112"/>
                  </a:lnTo>
                  <a:lnTo>
                    <a:pt x="4" y="100"/>
                  </a:lnTo>
                  <a:lnTo>
                    <a:pt x="0" y="84"/>
                  </a:lnTo>
                  <a:lnTo>
                    <a:pt x="0" y="66"/>
                  </a:lnTo>
                  <a:lnTo>
                    <a:pt x="4" y="62"/>
                  </a:lnTo>
                  <a:lnTo>
                    <a:pt x="14" y="51"/>
                  </a:lnTo>
                  <a:lnTo>
                    <a:pt x="27" y="37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50" y="28"/>
                  </a:lnTo>
                  <a:lnTo>
                    <a:pt x="58" y="28"/>
                  </a:lnTo>
                  <a:lnTo>
                    <a:pt x="72" y="29"/>
                  </a:lnTo>
                  <a:lnTo>
                    <a:pt x="87" y="29"/>
                  </a:lnTo>
                  <a:lnTo>
                    <a:pt x="106" y="31"/>
                  </a:lnTo>
                  <a:lnTo>
                    <a:pt x="128" y="31"/>
                  </a:lnTo>
                  <a:lnTo>
                    <a:pt x="154" y="31"/>
                  </a:lnTo>
                  <a:lnTo>
                    <a:pt x="181" y="31"/>
                  </a:lnTo>
                  <a:lnTo>
                    <a:pt x="212" y="29"/>
                  </a:lnTo>
                  <a:lnTo>
                    <a:pt x="244" y="28"/>
                  </a:lnTo>
                  <a:lnTo>
                    <a:pt x="278" y="25"/>
                  </a:lnTo>
                  <a:lnTo>
                    <a:pt x="314" y="20"/>
                  </a:lnTo>
                  <a:lnTo>
                    <a:pt x="352" y="16"/>
                  </a:lnTo>
                  <a:lnTo>
                    <a:pt x="391" y="8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45"/>
            <p:cNvSpPr/>
            <p:nvPr/>
          </p:nvSpPr>
          <p:spPr>
            <a:xfrm>
              <a:off x="2153520" y="767880"/>
              <a:ext cx="390240" cy="10692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527" h="131">
                  <a:moveTo>
                    <a:pt x="455" y="0"/>
                  </a:moveTo>
                  <a:lnTo>
                    <a:pt x="459" y="0"/>
                  </a:lnTo>
                  <a:lnTo>
                    <a:pt x="467" y="3"/>
                  </a:lnTo>
                  <a:lnTo>
                    <a:pt x="478" y="6"/>
                  </a:lnTo>
                  <a:lnTo>
                    <a:pt x="491" y="11"/>
                  </a:lnTo>
                  <a:lnTo>
                    <a:pt x="505" y="17"/>
                  </a:lnTo>
                  <a:lnTo>
                    <a:pt x="515" y="23"/>
                  </a:lnTo>
                  <a:lnTo>
                    <a:pt x="524" y="32"/>
                  </a:lnTo>
                  <a:lnTo>
                    <a:pt x="527" y="41"/>
                  </a:lnTo>
                  <a:lnTo>
                    <a:pt x="527" y="43"/>
                  </a:lnTo>
                  <a:lnTo>
                    <a:pt x="527" y="49"/>
                  </a:lnTo>
                  <a:lnTo>
                    <a:pt x="525" y="57"/>
                  </a:lnTo>
                  <a:lnTo>
                    <a:pt x="524" y="66"/>
                  </a:lnTo>
                  <a:lnTo>
                    <a:pt x="517" y="75"/>
                  </a:lnTo>
                  <a:lnTo>
                    <a:pt x="508" y="84"/>
                  </a:lnTo>
                  <a:lnTo>
                    <a:pt x="495" y="92"/>
                  </a:lnTo>
                  <a:lnTo>
                    <a:pt x="476" y="96"/>
                  </a:lnTo>
                  <a:lnTo>
                    <a:pt x="474" y="96"/>
                  </a:lnTo>
                  <a:lnTo>
                    <a:pt x="469" y="99"/>
                  </a:lnTo>
                  <a:lnTo>
                    <a:pt x="459" y="101"/>
                  </a:lnTo>
                  <a:lnTo>
                    <a:pt x="447" y="105"/>
                  </a:lnTo>
                  <a:lnTo>
                    <a:pt x="430" y="109"/>
                  </a:lnTo>
                  <a:lnTo>
                    <a:pt x="411" y="113"/>
                  </a:lnTo>
                  <a:lnTo>
                    <a:pt x="387" y="118"/>
                  </a:lnTo>
                  <a:lnTo>
                    <a:pt x="362" y="121"/>
                  </a:lnTo>
                  <a:lnTo>
                    <a:pt x="333" y="125"/>
                  </a:lnTo>
                  <a:lnTo>
                    <a:pt x="298" y="128"/>
                  </a:lnTo>
                  <a:lnTo>
                    <a:pt x="264" y="130"/>
                  </a:lnTo>
                  <a:lnTo>
                    <a:pt x="225" y="131"/>
                  </a:lnTo>
                  <a:lnTo>
                    <a:pt x="184" y="131"/>
                  </a:lnTo>
                  <a:lnTo>
                    <a:pt x="140" y="128"/>
                  </a:lnTo>
                  <a:lnTo>
                    <a:pt x="94" y="125"/>
                  </a:lnTo>
                  <a:lnTo>
                    <a:pt x="44" y="119"/>
                  </a:lnTo>
                  <a:lnTo>
                    <a:pt x="43" y="119"/>
                  </a:lnTo>
                  <a:lnTo>
                    <a:pt x="36" y="118"/>
                  </a:lnTo>
                  <a:lnTo>
                    <a:pt x="27" y="115"/>
                  </a:lnTo>
                  <a:lnTo>
                    <a:pt x="19" y="110"/>
                  </a:lnTo>
                  <a:lnTo>
                    <a:pt x="10" y="102"/>
                  </a:lnTo>
                  <a:lnTo>
                    <a:pt x="3" y="92"/>
                  </a:lnTo>
                  <a:lnTo>
                    <a:pt x="0" y="78"/>
                  </a:lnTo>
                  <a:lnTo>
                    <a:pt x="0" y="60"/>
                  </a:lnTo>
                  <a:lnTo>
                    <a:pt x="3" y="54"/>
                  </a:lnTo>
                  <a:lnTo>
                    <a:pt x="14" y="41"/>
                  </a:lnTo>
                  <a:lnTo>
                    <a:pt x="27" y="2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51" y="17"/>
                  </a:lnTo>
                  <a:lnTo>
                    <a:pt x="61" y="17"/>
                  </a:lnTo>
                  <a:lnTo>
                    <a:pt x="75" y="18"/>
                  </a:lnTo>
                  <a:lnTo>
                    <a:pt x="92" y="20"/>
                  </a:lnTo>
                  <a:lnTo>
                    <a:pt x="114" y="21"/>
                  </a:lnTo>
                  <a:lnTo>
                    <a:pt x="136" y="23"/>
                  </a:lnTo>
                  <a:lnTo>
                    <a:pt x="164" y="23"/>
                  </a:lnTo>
                  <a:lnTo>
                    <a:pt x="193" y="23"/>
                  </a:lnTo>
                  <a:lnTo>
                    <a:pt x="225" y="23"/>
                  </a:lnTo>
                  <a:lnTo>
                    <a:pt x="259" y="21"/>
                  </a:lnTo>
                  <a:lnTo>
                    <a:pt x="295" y="20"/>
                  </a:lnTo>
                  <a:lnTo>
                    <a:pt x="333" y="17"/>
                  </a:lnTo>
                  <a:lnTo>
                    <a:pt x="372" y="12"/>
                  </a:lnTo>
                  <a:lnTo>
                    <a:pt x="413" y="8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>
              <a:off x="2325240" y="625320"/>
              <a:ext cx="74520" cy="259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01" h="32">
                  <a:moveTo>
                    <a:pt x="101" y="23"/>
                  </a:moveTo>
                  <a:lnTo>
                    <a:pt x="92" y="21"/>
                  </a:lnTo>
                  <a:lnTo>
                    <a:pt x="80" y="20"/>
                  </a:lnTo>
                  <a:lnTo>
                    <a:pt x="65" y="21"/>
                  </a:lnTo>
                  <a:lnTo>
                    <a:pt x="49" y="23"/>
                  </a:lnTo>
                  <a:lnTo>
                    <a:pt x="34" y="24"/>
                  </a:lnTo>
                  <a:lnTo>
                    <a:pt x="20" y="27"/>
                  </a:lnTo>
                  <a:lnTo>
                    <a:pt x="8" y="29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5" y="29"/>
                  </a:lnTo>
                  <a:lnTo>
                    <a:pt x="10" y="24"/>
                  </a:lnTo>
                  <a:lnTo>
                    <a:pt x="19" y="20"/>
                  </a:lnTo>
                  <a:lnTo>
                    <a:pt x="29" y="15"/>
                  </a:lnTo>
                  <a:lnTo>
                    <a:pt x="44" y="9"/>
                  </a:lnTo>
                  <a:lnTo>
                    <a:pt x="61" y="4"/>
                  </a:lnTo>
                  <a:lnTo>
                    <a:pt x="82" y="0"/>
                  </a:lnTo>
                  <a:lnTo>
                    <a:pt x="10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47"/>
            <p:cNvSpPr/>
            <p:nvPr/>
          </p:nvSpPr>
          <p:spPr>
            <a:xfrm>
              <a:off x="2159280" y="628560"/>
              <a:ext cx="342720" cy="1170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463" h="143">
                  <a:moveTo>
                    <a:pt x="331" y="0"/>
                  </a:moveTo>
                  <a:lnTo>
                    <a:pt x="337" y="2"/>
                  </a:lnTo>
                  <a:lnTo>
                    <a:pt x="350" y="5"/>
                  </a:lnTo>
                  <a:lnTo>
                    <a:pt x="371" y="10"/>
                  </a:lnTo>
                  <a:lnTo>
                    <a:pt x="395" y="16"/>
                  </a:lnTo>
                  <a:lnTo>
                    <a:pt x="418" y="23"/>
                  </a:lnTo>
                  <a:lnTo>
                    <a:pt x="439" y="33"/>
                  </a:lnTo>
                  <a:lnTo>
                    <a:pt x="454" y="42"/>
                  </a:lnTo>
                  <a:lnTo>
                    <a:pt x="461" y="54"/>
                  </a:lnTo>
                  <a:lnTo>
                    <a:pt x="463" y="60"/>
                  </a:lnTo>
                  <a:lnTo>
                    <a:pt x="461" y="77"/>
                  </a:lnTo>
                  <a:lnTo>
                    <a:pt x="453" y="97"/>
                  </a:lnTo>
                  <a:lnTo>
                    <a:pt x="429" y="115"/>
                  </a:lnTo>
                  <a:lnTo>
                    <a:pt x="427" y="115"/>
                  </a:lnTo>
                  <a:lnTo>
                    <a:pt x="425" y="117"/>
                  </a:lnTo>
                  <a:lnTo>
                    <a:pt x="420" y="118"/>
                  </a:lnTo>
                  <a:lnTo>
                    <a:pt x="412" y="121"/>
                  </a:lnTo>
                  <a:lnTo>
                    <a:pt x="401" y="124"/>
                  </a:lnTo>
                  <a:lnTo>
                    <a:pt x="388" y="127"/>
                  </a:lnTo>
                  <a:lnTo>
                    <a:pt x="371" y="130"/>
                  </a:lnTo>
                  <a:lnTo>
                    <a:pt x="350" y="133"/>
                  </a:lnTo>
                  <a:lnTo>
                    <a:pt x="326" y="136"/>
                  </a:lnTo>
                  <a:lnTo>
                    <a:pt x="299" y="140"/>
                  </a:lnTo>
                  <a:lnTo>
                    <a:pt x="267" y="141"/>
                  </a:lnTo>
                  <a:lnTo>
                    <a:pt x="231" y="143"/>
                  </a:lnTo>
                  <a:lnTo>
                    <a:pt x="190" y="143"/>
                  </a:lnTo>
                  <a:lnTo>
                    <a:pt x="144" y="143"/>
                  </a:lnTo>
                  <a:lnTo>
                    <a:pt x="93" y="141"/>
                  </a:lnTo>
                  <a:lnTo>
                    <a:pt x="36" y="138"/>
                  </a:lnTo>
                  <a:lnTo>
                    <a:pt x="35" y="138"/>
                  </a:lnTo>
                  <a:lnTo>
                    <a:pt x="28" y="135"/>
                  </a:lnTo>
                  <a:lnTo>
                    <a:pt x="19" y="132"/>
                  </a:lnTo>
                  <a:lnTo>
                    <a:pt x="11" y="124"/>
                  </a:lnTo>
                  <a:lnTo>
                    <a:pt x="4" y="114"/>
                  </a:lnTo>
                  <a:lnTo>
                    <a:pt x="0" y="100"/>
                  </a:lnTo>
                  <a:lnTo>
                    <a:pt x="2" y="81"/>
                  </a:lnTo>
                  <a:lnTo>
                    <a:pt x="11" y="57"/>
                  </a:lnTo>
                  <a:lnTo>
                    <a:pt x="17" y="55"/>
                  </a:lnTo>
                  <a:lnTo>
                    <a:pt x="31" y="49"/>
                  </a:lnTo>
                  <a:lnTo>
                    <a:pt x="46" y="43"/>
                  </a:lnTo>
                  <a:lnTo>
                    <a:pt x="57" y="36"/>
                  </a:lnTo>
                  <a:lnTo>
                    <a:pt x="58" y="39"/>
                  </a:lnTo>
                  <a:lnTo>
                    <a:pt x="62" y="46"/>
                  </a:lnTo>
                  <a:lnTo>
                    <a:pt x="69" y="59"/>
                  </a:lnTo>
                  <a:lnTo>
                    <a:pt x="81" y="72"/>
                  </a:lnTo>
                  <a:lnTo>
                    <a:pt x="93" y="86"/>
                  </a:lnTo>
                  <a:lnTo>
                    <a:pt x="110" y="98"/>
                  </a:lnTo>
                  <a:lnTo>
                    <a:pt x="130" y="109"/>
                  </a:lnTo>
                  <a:lnTo>
                    <a:pt x="154" y="114"/>
                  </a:lnTo>
                  <a:lnTo>
                    <a:pt x="159" y="114"/>
                  </a:lnTo>
                  <a:lnTo>
                    <a:pt x="174" y="115"/>
                  </a:lnTo>
                  <a:lnTo>
                    <a:pt x="197" y="115"/>
                  </a:lnTo>
                  <a:lnTo>
                    <a:pt x="224" y="112"/>
                  </a:lnTo>
                  <a:lnTo>
                    <a:pt x="255" y="106"/>
                  </a:lnTo>
                  <a:lnTo>
                    <a:pt x="287" y="95"/>
                  </a:lnTo>
                  <a:lnTo>
                    <a:pt x="319" y="77"/>
                  </a:lnTo>
                  <a:lnTo>
                    <a:pt x="348" y="51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48"/>
            <p:cNvSpPr/>
            <p:nvPr/>
          </p:nvSpPr>
          <p:spPr>
            <a:xfrm>
              <a:off x="2148120" y="656280"/>
              <a:ext cx="182160" cy="925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246" h="113">
                  <a:moveTo>
                    <a:pt x="246" y="107"/>
                  </a:moveTo>
                  <a:lnTo>
                    <a:pt x="225" y="109"/>
                  </a:lnTo>
                  <a:lnTo>
                    <a:pt x="205" y="110"/>
                  </a:lnTo>
                  <a:lnTo>
                    <a:pt x="183" y="112"/>
                  </a:lnTo>
                  <a:lnTo>
                    <a:pt x="157" y="113"/>
                  </a:lnTo>
                  <a:lnTo>
                    <a:pt x="131" y="113"/>
                  </a:lnTo>
                  <a:lnTo>
                    <a:pt x="102" y="113"/>
                  </a:lnTo>
                  <a:lnTo>
                    <a:pt x="70" y="110"/>
                  </a:lnTo>
                  <a:lnTo>
                    <a:pt x="36" y="106"/>
                  </a:lnTo>
                  <a:lnTo>
                    <a:pt x="34" y="106"/>
                  </a:lnTo>
                  <a:lnTo>
                    <a:pt x="27" y="102"/>
                  </a:lnTo>
                  <a:lnTo>
                    <a:pt x="19" y="99"/>
                  </a:lnTo>
                  <a:lnTo>
                    <a:pt x="10" y="92"/>
                  </a:lnTo>
                  <a:lnTo>
                    <a:pt x="3" y="81"/>
                  </a:lnTo>
                  <a:lnTo>
                    <a:pt x="0" y="67"/>
                  </a:lnTo>
                  <a:lnTo>
                    <a:pt x="2" y="49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9" y="21"/>
                  </a:lnTo>
                  <a:lnTo>
                    <a:pt x="27" y="18"/>
                  </a:lnTo>
                  <a:lnTo>
                    <a:pt x="38" y="15"/>
                  </a:lnTo>
                  <a:lnTo>
                    <a:pt x="50" y="11"/>
                  </a:lnTo>
                  <a:lnTo>
                    <a:pt x="58" y="8"/>
                  </a:lnTo>
                  <a:lnTo>
                    <a:pt x="67" y="3"/>
                  </a:lnTo>
                  <a:lnTo>
                    <a:pt x="70" y="0"/>
                  </a:lnTo>
                  <a:lnTo>
                    <a:pt x="72" y="3"/>
                  </a:lnTo>
                  <a:lnTo>
                    <a:pt x="75" y="11"/>
                  </a:lnTo>
                  <a:lnTo>
                    <a:pt x="84" y="23"/>
                  </a:lnTo>
                  <a:lnTo>
                    <a:pt x="94" y="37"/>
                  </a:lnTo>
                  <a:lnTo>
                    <a:pt x="108" y="50"/>
                  </a:lnTo>
                  <a:lnTo>
                    <a:pt x="125" y="63"/>
                  </a:lnTo>
                  <a:lnTo>
                    <a:pt x="145" y="72"/>
                  </a:lnTo>
                  <a:lnTo>
                    <a:pt x="169" y="78"/>
                  </a:lnTo>
                  <a:lnTo>
                    <a:pt x="171" y="78"/>
                  </a:lnTo>
                  <a:lnTo>
                    <a:pt x="174" y="78"/>
                  </a:lnTo>
                  <a:lnTo>
                    <a:pt x="181" y="80"/>
                  </a:lnTo>
                  <a:lnTo>
                    <a:pt x="189" y="80"/>
                  </a:lnTo>
                  <a:lnTo>
                    <a:pt x="201" y="80"/>
                  </a:lnTo>
                  <a:lnTo>
                    <a:pt x="213" y="78"/>
                  </a:lnTo>
                  <a:lnTo>
                    <a:pt x="227" y="78"/>
                  </a:lnTo>
                  <a:lnTo>
                    <a:pt x="241" y="75"/>
                  </a:lnTo>
                  <a:lnTo>
                    <a:pt x="246" y="107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49"/>
            <p:cNvSpPr/>
            <p:nvPr/>
          </p:nvSpPr>
          <p:spPr>
            <a:xfrm>
              <a:off x="2330640" y="685080"/>
              <a:ext cx="12960" cy="56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8" h="69">
                  <a:moveTo>
                    <a:pt x="0" y="69"/>
                  </a:moveTo>
                  <a:lnTo>
                    <a:pt x="7" y="66"/>
                  </a:lnTo>
                  <a:lnTo>
                    <a:pt x="17" y="54"/>
                  </a:lnTo>
                  <a:lnTo>
                    <a:pt x="18" y="32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50"/>
            <p:cNvSpPr/>
            <p:nvPr/>
          </p:nvSpPr>
          <p:spPr>
            <a:xfrm>
              <a:off x="1706040" y="465120"/>
              <a:ext cx="547920" cy="45216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740" h="553">
                  <a:moveTo>
                    <a:pt x="177" y="113"/>
                  </a:moveTo>
                  <a:lnTo>
                    <a:pt x="123" y="185"/>
                  </a:lnTo>
                  <a:lnTo>
                    <a:pt x="80" y="260"/>
                  </a:lnTo>
                  <a:lnTo>
                    <a:pt x="48" y="333"/>
                  </a:lnTo>
                  <a:lnTo>
                    <a:pt x="27" y="402"/>
                  </a:lnTo>
                  <a:lnTo>
                    <a:pt x="12" y="463"/>
                  </a:lnTo>
                  <a:lnTo>
                    <a:pt x="5" y="511"/>
                  </a:lnTo>
                  <a:lnTo>
                    <a:pt x="0" y="543"/>
                  </a:lnTo>
                  <a:lnTo>
                    <a:pt x="0" y="553"/>
                  </a:lnTo>
                  <a:lnTo>
                    <a:pt x="2" y="547"/>
                  </a:lnTo>
                  <a:lnTo>
                    <a:pt x="5" y="532"/>
                  </a:lnTo>
                  <a:lnTo>
                    <a:pt x="14" y="506"/>
                  </a:lnTo>
                  <a:lnTo>
                    <a:pt x="25" y="472"/>
                  </a:lnTo>
                  <a:lnTo>
                    <a:pt x="43" y="434"/>
                  </a:lnTo>
                  <a:lnTo>
                    <a:pt x="65" y="390"/>
                  </a:lnTo>
                  <a:lnTo>
                    <a:pt x="92" y="343"/>
                  </a:lnTo>
                  <a:lnTo>
                    <a:pt x="128" y="294"/>
                  </a:lnTo>
                  <a:lnTo>
                    <a:pt x="170" y="245"/>
                  </a:lnTo>
                  <a:lnTo>
                    <a:pt x="220" y="197"/>
                  </a:lnTo>
                  <a:lnTo>
                    <a:pt x="280" y="152"/>
                  </a:lnTo>
                  <a:lnTo>
                    <a:pt x="346" y="112"/>
                  </a:lnTo>
                  <a:lnTo>
                    <a:pt x="425" y="75"/>
                  </a:lnTo>
                  <a:lnTo>
                    <a:pt x="512" y="48"/>
                  </a:lnTo>
                  <a:lnTo>
                    <a:pt x="611" y="28"/>
                  </a:lnTo>
                  <a:lnTo>
                    <a:pt x="722" y="17"/>
                  </a:lnTo>
                  <a:lnTo>
                    <a:pt x="740" y="16"/>
                  </a:lnTo>
                  <a:lnTo>
                    <a:pt x="699" y="9"/>
                  </a:lnTo>
                  <a:lnTo>
                    <a:pt x="660" y="5"/>
                  </a:lnTo>
                  <a:lnTo>
                    <a:pt x="621" y="2"/>
                  </a:lnTo>
                  <a:lnTo>
                    <a:pt x="583" y="0"/>
                  </a:lnTo>
                  <a:lnTo>
                    <a:pt x="548" y="0"/>
                  </a:lnTo>
                  <a:lnTo>
                    <a:pt x="513" y="2"/>
                  </a:lnTo>
                  <a:lnTo>
                    <a:pt x="481" y="3"/>
                  </a:lnTo>
                  <a:lnTo>
                    <a:pt x="452" y="6"/>
                  </a:lnTo>
                  <a:lnTo>
                    <a:pt x="425" y="8"/>
                  </a:lnTo>
                  <a:lnTo>
                    <a:pt x="399" y="13"/>
                  </a:lnTo>
                  <a:lnTo>
                    <a:pt x="379" y="16"/>
                  </a:lnTo>
                  <a:lnTo>
                    <a:pt x="360" y="19"/>
                  </a:lnTo>
                  <a:lnTo>
                    <a:pt x="346" y="20"/>
                  </a:lnTo>
                  <a:lnTo>
                    <a:pt x="334" y="23"/>
                  </a:lnTo>
                  <a:lnTo>
                    <a:pt x="327" y="25"/>
                  </a:lnTo>
                  <a:lnTo>
                    <a:pt x="326" y="25"/>
                  </a:lnTo>
                  <a:lnTo>
                    <a:pt x="287" y="34"/>
                  </a:lnTo>
                  <a:lnTo>
                    <a:pt x="254" y="46"/>
                  </a:lnTo>
                  <a:lnTo>
                    <a:pt x="229" y="60"/>
                  </a:lnTo>
                  <a:lnTo>
                    <a:pt x="208" y="75"/>
                  </a:lnTo>
                  <a:lnTo>
                    <a:pt x="194" y="90"/>
                  </a:lnTo>
                  <a:lnTo>
                    <a:pt x="184" y="101"/>
                  </a:lnTo>
                  <a:lnTo>
                    <a:pt x="179" y="110"/>
                  </a:lnTo>
                  <a:lnTo>
                    <a:pt x="177" y="113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51"/>
            <p:cNvSpPr/>
            <p:nvPr/>
          </p:nvSpPr>
          <p:spPr>
            <a:xfrm>
              <a:off x="2166120" y="1042560"/>
              <a:ext cx="155520" cy="111240"/>
            </a:xfrm>
            <a:custGeom>
              <a:avLst/>
              <a:gdLst>
                <a:gd name="textAreaLeft" fmla="*/ 0 w 155520"/>
                <a:gd name="textAreaRight" fmla="*/ 155520 w 1555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10" h="136">
                  <a:moveTo>
                    <a:pt x="196" y="136"/>
                  </a:moveTo>
                  <a:lnTo>
                    <a:pt x="181" y="135"/>
                  </a:lnTo>
                  <a:lnTo>
                    <a:pt x="162" y="133"/>
                  </a:lnTo>
                  <a:lnTo>
                    <a:pt x="142" y="130"/>
                  </a:lnTo>
                  <a:lnTo>
                    <a:pt x="121" y="125"/>
                  </a:lnTo>
                  <a:lnTo>
                    <a:pt x="101" y="122"/>
                  </a:lnTo>
                  <a:lnTo>
                    <a:pt x="78" y="118"/>
                  </a:lnTo>
                  <a:lnTo>
                    <a:pt x="60" y="113"/>
                  </a:lnTo>
                  <a:lnTo>
                    <a:pt x="41" y="107"/>
                  </a:lnTo>
                  <a:lnTo>
                    <a:pt x="34" y="103"/>
                  </a:lnTo>
                  <a:lnTo>
                    <a:pt x="19" y="89"/>
                  </a:lnTo>
                  <a:lnTo>
                    <a:pt x="3" y="67"/>
                  </a:lnTo>
                  <a:lnTo>
                    <a:pt x="0" y="37"/>
                  </a:lnTo>
                  <a:lnTo>
                    <a:pt x="3" y="32"/>
                  </a:lnTo>
                  <a:lnTo>
                    <a:pt x="10" y="22"/>
                  </a:lnTo>
                  <a:lnTo>
                    <a:pt x="20" y="9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46" y="3"/>
                  </a:lnTo>
                  <a:lnTo>
                    <a:pt x="63" y="6"/>
                  </a:lnTo>
                  <a:lnTo>
                    <a:pt x="85" y="9"/>
                  </a:lnTo>
                  <a:lnTo>
                    <a:pt x="113" y="14"/>
                  </a:lnTo>
                  <a:lnTo>
                    <a:pt x="143" y="17"/>
                  </a:lnTo>
                  <a:lnTo>
                    <a:pt x="176" y="19"/>
                  </a:lnTo>
                  <a:lnTo>
                    <a:pt x="210" y="20"/>
                  </a:lnTo>
                  <a:lnTo>
                    <a:pt x="196" y="136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52"/>
            <p:cNvSpPr/>
            <p:nvPr/>
          </p:nvSpPr>
          <p:spPr>
            <a:xfrm>
              <a:off x="2125080" y="916560"/>
              <a:ext cx="214200" cy="101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89" h="124">
                  <a:moveTo>
                    <a:pt x="277" y="124"/>
                  </a:moveTo>
                  <a:lnTo>
                    <a:pt x="255" y="124"/>
                  </a:lnTo>
                  <a:lnTo>
                    <a:pt x="229" y="122"/>
                  </a:lnTo>
                  <a:lnTo>
                    <a:pt x="200" y="122"/>
                  </a:lnTo>
                  <a:lnTo>
                    <a:pt x="171" y="119"/>
                  </a:lnTo>
                  <a:lnTo>
                    <a:pt x="139" y="118"/>
                  </a:lnTo>
                  <a:lnTo>
                    <a:pt x="108" y="114"/>
                  </a:lnTo>
                  <a:lnTo>
                    <a:pt x="77" y="111"/>
                  </a:lnTo>
                  <a:lnTo>
                    <a:pt x="46" y="107"/>
                  </a:lnTo>
                  <a:lnTo>
                    <a:pt x="45" y="107"/>
                  </a:lnTo>
                  <a:lnTo>
                    <a:pt x="38" y="104"/>
                  </a:lnTo>
                  <a:lnTo>
                    <a:pt x="29" y="99"/>
                  </a:lnTo>
                  <a:lnTo>
                    <a:pt x="21" y="93"/>
                  </a:lnTo>
                  <a:lnTo>
                    <a:pt x="12" y="84"/>
                  </a:lnTo>
                  <a:lnTo>
                    <a:pt x="5" y="72"/>
                  </a:lnTo>
                  <a:lnTo>
                    <a:pt x="0" y="56"/>
                  </a:lnTo>
                  <a:lnTo>
                    <a:pt x="2" y="38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63" y="1"/>
                  </a:lnTo>
                  <a:lnTo>
                    <a:pt x="87" y="3"/>
                  </a:lnTo>
                  <a:lnTo>
                    <a:pt x="120" y="4"/>
                  </a:lnTo>
                  <a:lnTo>
                    <a:pt x="157" y="4"/>
                  </a:lnTo>
                  <a:lnTo>
                    <a:pt x="200" y="4"/>
                  </a:lnTo>
                  <a:lnTo>
                    <a:pt x="244" y="4"/>
                  </a:lnTo>
                  <a:lnTo>
                    <a:pt x="289" y="1"/>
                  </a:lnTo>
                  <a:lnTo>
                    <a:pt x="277" y="124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53"/>
            <p:cNvSpPr/>
            <p:nvPr/>
          </p:nvSpPr>
          <p:spPr>
            <a:xfrm>
              <a:off x="2119320" y="781560"/>
              <a:ext cx="216720" cy="9324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293" h="114">
                  <a:moveTo>
                    <a:pt x="290" y="113"/>
                  </a:moveTo>
                  <a:lnTo>
                    <a:pt x="264" y="114"/>
                  </a:lnTo>
                  <a:lnTo>
                    <a:pt x="237" y="114"/>
                  </a:lnTo>
                  <a:lnTo>
                    <a:pt x="208" y="114"/>
                  </a:lnTo>
                  <a:lnTo>
                    <a:pt x="176" y="114"/>
                  </a:lnTo>
                  <a:lnTo>
                    <a:pt x="143" y="113"/>
                  </a:lnTo>
                  <a:lnTo>
                    <a:pt x="109" y="110"/>
                  </a:lnTo>
                  <a:lnTo>
                    <a:pt x="77" y="107"/>
                  </a:lnTo>
                  <a:lnTo>
                    <a:pt x="44" y="102"/>
                  </a:lnTo>
                  <a:lnTo>
                    <a:pt x="42" y="102"/>
                  </a:lnTo>
                  <a:lnTo>
                    <a:pt x="36" y="101"/>
                  </a:lnTo>
                  <a:lnTo>
                    <a:pt x="27" y="98"/>
                  </a:lnTo>
                  <a:lnTo>
                    <a:pt x="19" y="93"/>
                  </a:lnTo>
                  <a:lnTo>
                    <a:pt x="10" y="85"/>
                  </a:lnTo>
                  <a:lnTo>
                    <a:pt x="3" y="75"/>
                  </a:lnTo>
                  <a:lnTo>
                    <a:pt x="0" y="61"/>
                  </a:lnTo>
                  <a:lnTo>
                    <a:pt x="0" y="43"/>
                  </a:lnTo>
                  <a:lnTo>
                    <a:pt x="3" y="38"/>
                  </a:lnTo>
                  <a:lnTo>
                    <a:pt x="13" y="26"/>
                  </a:lnTo>
                  <a:lnTo>
                    <a:pt x="25" y="1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63" y="1"/>
                  </a:lnTo>
                  <a:lnTo>
                    <a:pt x="89" y="3"/>
                  </a:lnTo>
                  <a:lnTo>
                    <a:pt x="121" y="4"/>
                  </a:lnTo>
                  <a:lnTo>
                    <a:pt x="160" y="6"/>
                  </a:lnTo>
                  <a:lnTo>
                    <a:pt x="203" y="6"/>
                  </a:lnTo>
                  <a:lnTo>
                    <a:pt x="247" y="4"/>
                  </a:lnTo>
                  <a:lnTo>
                    <a:pt x="293" y="3"/>
                  </a:lnTo>
                  <a:lnTo>
                    <a:pt x="290" y="113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54"/>
            <p:cNvSpPr/>
            <p:nvPr/>
          </p:nvSpPr>
          <p:spPr>
            <a:xfrm>
              <a:off x="2311200" y="1066320"/>
              <a:ext cx="22680" cy="759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1" h="93">
                  <a:moveTo>
                    <a:pt x="0" y="93"/>
                  </a:moveTo>
                  <a:lnTo>
                    <a:pt x="2" y="92"/>
                  </a:lnTo>
                  <a:lnTo>
                    <a:pt x="9" y="89"/>
                  </a:lnTo>
                  <a:lnTo>
                    <a:pt x="15" y="81"/>
                  </a:lnTo>
                  <a:lnTo>
                    <a:pt x="22" y="72"/>
                  </a:lnTo>
                  <a:lnTo>
                    <a:pt x="27" y="58"/>
                  </a:lnTo>
                  <a:lnTo>
                    <a:pt x="31" y="43"/>
                  </a:lnTo>
                  <a:lnTo>
                    <a:pt x="27" y="23"/>
                  </a:lnTo>
                  <a:lnTo>
                    <a:pt x="19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55"/>
            <p:cNvSpPr/>
            <p:nvPr/>
          </p:nvSpPr>
          <p:spPr>
            <a:xfrm>
              <a:off x="2330640" y="925560"/>
              <a:ext cx="17640" cy="76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4" h="94">
                  <a:moveTo>
                    <a:pt x="0" y="94"/>
                  </a:moveTo>
                  <a:lnTo>
                    <a:pt x="7" y="88"/>
                  </a:lnTo>
                  <a:lnTo>
                    <a:pt x="18" y="70"/>
                  </a:lnTo>
                  <a:lnTo>
                    <a:pt x="24" y="41"/>
                  </a:lnTo>
                  <a:lnTo>
                    <a:pt x="7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56"/>
            <p:cNvSpPr/>
            <p:nvPr/>
          </p:nvSpPr>
          <p:spPr>
            <a:xfrm>
              <a:off x="2334240" y="788040"/>
              <a:ext cx="14760" cy="766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0" h="94">
                  <a:moveTo>
                    <a:pt x="2" y="94"/>
                  </a:moveTo>
                  <a:lnTo>
                    <a:pt x="8" y="88"/>
                  </a:lnTo>
                  <a:lnTo>
                    <a:pt x="19" y="70"/>
                  </a:lnTo>
                  <a:lnTo>
                    <a:pt x="20" y="39"/>
                  </a:lnTo>
                  <a:lnTo>
                    <a:pt x="0" y="0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57"/>
            <p:cNvSpPr/>
            <p:nvPr/>
          </p:nvSpPr>
          <p:spPr>
            <a:xfrm>
              <a:off x="1706040" y="926640"/>
              <a:ext cx="35280" cy="2098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8" h="257">
                  <a:moveTo>
                    <a:pt x="5" y="257"/>
                  </a:moveTo>
                  <a:lnTo>
                    <a:pt x="8" y="252"/>
                  </a:lnTo>
                  <a:lnTo>
                    <a:pt x="19" y="240"/>
                  </a:lnTo>
                  <a:lnTo>
                    <a:pt x="31" y="219"/>
                  </a:lnTo>
                  <a:lnTo>
                    <a:pt x="41" y="190"/>
                  </a:lnTo>
                  <a:lnTo>
                    <a:pt x="48" y="154"/>
                  </a:lnTo>
                  <a:lnTo>
                    <a:pt x="44" y="110"/>
                  </a:lnTo>
                  <a:lnTo>
                    <a:pt x="31" y="58"/>
                  </a:lnTo>
                  <a:lnTo>
                    <a:pt x="0" y="0"/>
                  </a:lnTo>
                  <a:lnTo>
                    <a:pt x="5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Content Placeholder 2"/>
          <p:cNvSpPr/>
          <p:nvPr/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ictators have absolute control over the lives of their citizens and usually people are not allowed to voice their negative 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Content Placeholder 2"/>
          <p:cNvSpPr/>
          <p:nvPr/>
        </p:nvSpPr>
        <p:spPr>
          <a:xfrm>
            <a:off x="457200" y="4343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orth Korea’s leader Kim Jong Il is considered a dicta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21:33:22Z</dcterms:created>
  <dc:creator>sf6</dc:creator>
  <dc:description/>
  <dc:language>en-US</dc:language>
  <cp:lastModifiedBy>Illinois School District U-46</cp:lastModifiedBy>
  <dcterms:modified xsi:type="dcterms:W3CDTF">2013-08-21T14:07:26Z</dcterms:modified>
  <cp:revision>43</cp:revision>
  <dc:subject/>
  <dc:title>Who Rules?</dc:title>
</cp:coreProperties>
</file>